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24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4C2D5-72DD-4A35-AC02-31B349F8ABD3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601C-E21D-4982-9A16-19470509E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08AF-BD0F-42D2-9064-A000D6B54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BF71E5-5AEA-45B3-B969-1333C82DF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CBCBBF-B16E-41ED-919E-4133964B2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F67B8D-EF2D-4E8B-8D8E-4470F1AD5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1A8BA0-9CD1-4BEF-97FD-7C3E742AF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75B9C0-FB56-4BE4-BA92-F77966686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B1E9F4-0706-413F-984D-6E860632D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B24FAC-804A-4107-A1D5-BD18FD905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EA5FD3-B409-4395-A264-9AAE159E6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C24E6C-5CD8-42AF-A6D8-65D1A0BA5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2843F8-90DC-413C-AA51-0A10D9BB1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1FFA-63B4-4C11-BF84-79330D538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E94809-65F6-494F-B7F0-DBB45941D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F93A4B-0465-42A2-922D-5DBE253A9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659AA1-3F13-4D4B-92FE-CCEB65DE3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4F36E7-5CFE-49BA-98C3-A48E4DEC2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0F44E7-2544-4602-957F-ED5E298D8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BEDE5C-110D-4AE5-B3DD-424458C0D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55A3AE-9DDD-456E-B2A8-ADA5EF2CF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55B4E4-4701-4B7F-9FC1-EDAE1A270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9C749F-89C8-409F-B32E-0282E7707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F19A14-AF1C-4270-BF1A-17BBB5F8E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3323-CD97-4DBA-A210-1A2533006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D700D0-C95C-4393-AA72-EB13B0077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9D10DF-86A7-4397-AEAA-DCDD8E60C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636B93-3BE7-407E-BCFF-D2BB742CE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A7DDB5-BF38-41D5-9B3E-1A15F1B38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2511F9-E968-4EE0-B82E-AD49378AE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452211-9822-42D5-8F83-4492B4793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8844A3-C6FC-4187-9AD4-985B191CD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AE0858-D0E4-469F-B6B6-478C57338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D72F94-00D9-4F80-BD81-438E4877F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769770-CED0-4E26-9C10-33C16CA12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0F352-931A-47CA-BB6B-BE4E09B45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6D2A61-D9A2-4F32-8160-92B540878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5DA4E8-BA67-4512-B861-B44795F69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3DE180-8E27-4A6E-AE41-EE9B9FFDF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CF1728-75EA-4D17-96B8-7599D12FA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3628E6-2F93-4F19-909D-E2962A07D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6ADB64-36AC-4AC1-AA1F-30EC4C126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8BD2FF-7AD7-4826-A523-14C3E4747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D059F7-07E2-4A97-B8D3-DB5763587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3864D6-CD64-48DD-9B21-FA4DD63D6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280A5B-ED72-4C92-8962-E8DAF2960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E93C9-D276-473C-9027-6807ABAFB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41B671-C862-4D9E-B55B-BB680C27D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7DE791-A16D-4503-97A8-960412036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4345D6-8E82-434B-9595-3C8B15A7B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30975D-DAE4-47CF-87A8-E168A3A6E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66FAC4-4F91-47E2-996C-7AC3C98FC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DC1E5C2-B0A7-4629-9653-DE2DA2A54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87C041F-4FEB-465F-B148-8C8CE40EC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74818A3-B1CA-46B6-A701-D2C73E903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FF503AA-58F6-49C2-B1A4-3AF329C32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3C4BA70-8C99-4D1D-B2C8-76A745E26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A608F-5B25-46C7-9FD9-16B66A1AC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1F84FE6-D7CE-48C6-A024-A58B1D6E3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F89AA92-F953-42AE-840A-30F187D01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B133F20-0D42-4922-A33E-66E4ED39F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B8351C4-34A1-4D6A-AA0E-1EB4F5283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BBC6780-6C7F-4C81-A9E4-81DB20B1A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09A4B37-EC45-442F-AE3A-187C76A50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88D409B-04E2-4D3D-8981-E426154B7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0E060-0F17-4FCC-AC69-42CAA4FFE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A3DC8-8456-49BB-A221-7609FED5F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B4F29-FD14-44FC-ACF3-BD1961554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3E127-0D2F-49FB-8820-344C00744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E09D-EEFE-4D68-A09F-8E3C57A05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BB000-ACD0-4441-B564-85066AD31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402E2-22DB-4A64-83B4-E6C2BFE03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035DA-02CC-4812-823D-93DEFA0B3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CD17B-EEFE-490D-9F90-7873129B1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70A60-B1DF-4539-BFD3-CEC7BA7D1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682D84-27EB-4012-A8A0-07BC56A3F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8CD7EA-E119-4462-BDF4-09AE01F05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B3764A-7020-4E6B-B9AD-C4178119F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31AD89-12F0-4D96-8DE2-FC12A9DF6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F303E0-CD33-4CBB-B055-8C0A557D5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469C-8B7C-4A6B-96C7-A880AD26D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2E4284-26C9-43EF-A85D-5F189B202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320C1F-31DE-4427-852A-D612B6528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A963BD-8AB8-4EAA-A829-6452C9840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FBD149-1AE0-406A-A8D3-1C0F167D1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C25B1F-F271-4BDA-B67D-541BA9D15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42A193-6AA1-44E1-B6B4-8F43BEAE3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1190C6-C671-4516-A3D5-B570F1F6E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4F18FB-7225-46AA-A75D-169432DB2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9A8AA9-DD29-4037-8069-2C0518EF3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B5DC33-A775-41BF-97A9-27B1AE6BD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33ED-2E55-4314-9E35-081FEF8A4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606F9E-3578-4476-A11A-2DA7BE3F8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88CC6C-FB9A-4A2B-A807-410089F06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ECA5A9-2FC7-4821-B3D3-A10C6FE05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C61E57-2FDB-4975-8532-48601DCB8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E0922F-1CB9-4539-9E9D-B58368649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7957BD-7302-4571-B0A7-CFE32456A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A11D03-3BC3-4582-A778-F53D468A2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6B5911-2251-4058-BB03-5F76B4167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9A92AD-2B13-42E0-9ED7-88CFCCA7F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A33194-51EB-4F73-88FA-A3CB6077D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B5D0-070B-4FB4-B099-2265DE210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6D090C-0E10-4A0D-B6B0-62AD5F47E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1AACDB-8BE3-438A-AA3F-1AF0FD4F5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AB043F-2113-4F44-9CF1-68CF13C64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004EA0-9A32-447B-B262-5BFE15411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4873AB-C9E5-4008-A594-4B73080A3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005E60-A92F-4C8E-AE33-069A965FD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F53BBC-6600-41AA-BC01-6CAB70E6A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27186C-F64C-4F0C-AD9E-5E7E773D5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7EB8AD-7C42-445C-8AD4-BBF4FFCDE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CE96AD-CEF8-45C2-8103-1127E8FC2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7F9F-395A-4DAC-916E-799245FDE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6C0AA0-0A61-4C17-801A-161FBAF2A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A28BFB1-F22B-4785-A378-F9D79FD35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0972957-F06B-43A7-9A67-4061754BF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F4779A0-D9D9-4AAE-AAD1-C9DD0CA1C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B8276FE-F67E-475E-B2D5-E2093E7C1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2908DFC-C554-4EC1-AF76-F331273BD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1C0463F-FC01-4A12-8A72-34254A7A3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E4E7C9E-C256-4D00-9733-6138BFEEE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1ADD5A-3A8E-419A-9900-AD87E4C80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A421CA-F82E-4C14-BA01-BD43D8E7D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838E-3FD8-48A9-888F-315037622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D3EBCF-DB23-4F8F-9B7F-CBA44E41F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E2896E5-7E41-4908-AB86-252F43088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5F843E5-FDA6-475F-B3C5-BDFEA5725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55ADAF-0B71-4B25-B089-B4367EE38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FF6E3B-0CF5-4064-8618-654ED260F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882789-B35F-4552-A99A-E5F55089F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44C97B-0EFD-498D-B356-B963AC240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894A02-9178-4CAD-BB9C-E84D9485F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415D8B-0AA6-4CAF-A070-47199E370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E2D4DE-466C-47F7-B0BB-851700357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6445-0AD3-4836-9107-25C68CD8A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3FB0CC-C0FE-42FE-A957-23ED28027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E5D096-FC36-408C-85F9-319F55674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DCAA95-014B-4F1A-9CE9-3AD9266B1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3143DA-C4BC-427A-B864-5BD1D4B16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F8A312-98C4-4197-90EA-CA401DF55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CD223F-CC70-4FBE-8610-27F634AE0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BB22E6-8556-4AB1-ADBA-56F663CD1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FBD130-7B4E-4F34-9829-6C705EE8C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A23769-2794-4917-96D2-C48B03807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39594F-A577-4445-A8D4-45BB2F290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B7E5-3528-4A5F-B273-130C920DC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712A06-8E53-42B1-B652-0CCDDB9BB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95BE9E-6CD2-4F3F-869C-2206DC86C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03D923-4D87-4814-8382-82A4486FF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AD6B9A-9209-4AF9-8E53-ADE93B60E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F72C8C-1E8D-49FA-A421-9995CB44F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52F814-3450-486C-A7BB-B337A7A94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F344AE-F338-442C-8ED9-E14153C2B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6F1EFF-2739-4254-8F47-CBDE2E127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BD6F6E-6C30-433B-84DB-5E1714AC1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69BB66-E9BD-494F-9FA6-3AA7B5FC4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8B832-1400-43CE-978F-A78C89D0E75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B60AE-2908-45A3-A0A1-81DD99FD903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4281E-E745-485F-92F2-804222B78BA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F46E9-BE1C-4979-AE9E-30EDE5FD0F1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264D4-7390-4761-84A0-BD4F6DF1F87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9E7C7-82D0-4EEE-A5A5-057B0FB3717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C9793-8DEE-4D8B-8960-C7345B64DDC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58FC0-88D4-4BD8-A594-E0594F3469A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F91DA-AFFC-4B00-8E5D-B17093227B9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39E54-5D3D-4BCA-9FA4-058C26C0413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84C56-FD53-44E3-956B-10B4AB09704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7F658-29DA-4851-9800-2E27EAEC025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980C7-42A0-420B-BF25-1873BE4F00F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9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4.pn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7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9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21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23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9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image" Target="../media/image36.png"/><Relationship Id="rId9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8268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289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644720" y="1857240"/>
            <a:ext cx="9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전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4862880" y="2500200"/>
            <a:ext cx="147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문제 해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7140D-C67A-4F6B-AB66-0618B159B9D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0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41" name="그룹 129"/>
          <p:cNvGrpSpPr/>
          <p:nvPr/>
        </p:nvGrpSpPr>
        <p:grpSpPr>
          <a:xfrm>
            <a:off x="298440" y="2300400"/>
            <a:ext cx="8535960" cy="3655800"/>
            <a:chOff x="298440" y="2300400"/>
            <a:chExt cx="8535960" cy="3655800"/>
          </a:xfrm>
        </p:grpSpPr>
        <p:grpSp>
          <p:nvGrpSpPr>
            <p:cNvPr id="1142" name="그룹 56"/>
            <p:cNvGrpSpPr/>
            <p:nvPr/>
          </p:nvGrpSpPr>
          <p:grpSpPr>
            <a:xfrm>
              <a:off x="7505640" y="3916800"/>
              <a:ext cx="352440" cy="455400"/>
              <a:chOff x="7505640" y="3916800"/>
              <a:chExt cx="352440" cy="455400"/>
            </a:xfrm>
          </p:grpSpPr>
          <p:sp>
            <p:nvSpPr>
              <p:cNvPr id="1143" name="오른쪽 화살표 84"/>
              <p:cNvSpPr/>
              <p:nvPr/>
            </p:nvSpPr>
            <p:spPr>
              <a:xfrm rot="5400000">
                <a:off x="7454160" y="3968280"/>
                <a:ext cx="455400" cy="352440"/>
              </a:xfrm>
              <a:prstGeom prst="rightArrow">
                <a:avLst>
                  <a:gd name="adj1" fmla="val 60000"/>
                  <a:gd name="adj2" fmla="val 49980"/>
                </a:avLst>
              </a:prstGeom>
              <a:solidFill>
                <a:srgbClr val="4757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오른쪽 화살표 20"/>
              <p:cNvSpPr/>
              <p:nvPr/>
            </p:nvSpPr>
            <p:spPr>
              <a:xfrm rot="5400000">
                <a:off x="7507080" y="3984840"/>
                <a:ext cx="349200" cy="21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300"/>
                  </a:spcAft>
                  <a:tabLst>
                    <a:tab algn="l" pos="0"/>
                    <a:tab algn="l" pos="311040"/>
                    <a:tab algn="l" pos="622440"/>
                    <a:tab algn="l" pos="933480"/>
                    <a:tab algn="l" pos="1244520"/>
                    <a:tab algn="l" pos="1555920"/>
                    <a:tab algn="l" pos="1866960"/>
                    <a:tab algn="l" pos="2178000"/>
                    <a:tab algn="l" pos="2489040"/>
                    <a:tab algn="l" pos="2800440"/>
                    <a:tab algn="l" pos="3111480"/>
                    <a:tab algn="l" pos="3422520"/>
                    <a:tab algn="l" pos="3733920"/>
                    <a:tab algn="l" pos="4044960"/>
                    <a:tab algn="l" pos="4356000"/>
                    <a:tab algn="l" pos="4667400"/>
                    <a:tab algn="l" pos="4978440"/>
                    <a:tab algn="l" pos="5289480"/>
                    <a:tab algn="l" pos="5600880"/>
                    <a:tab algn="l" pos="5911920"/>
                    <a:tab algn="l" pos="6222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5" name="그룹 59"/>
            <p:cNvGrpSpPr/>
            <p:nvPr/>
          </p:nvGrpSpPr>
          <p:grpSpPr>
            <a:xfrm>
              <a:off x="5877000" y="5234040"/>
              <a:ext cx="455040" cy="352800"/>
              <a:chOff x="5877000" y="5234040"/>
              <a:chExt cx="455040" cy="352800"/>
            </a:xfrm>
          </p:grpSpPr>
          <p:sp>
            <p:nvSpPr>
              <p:cNvPr id="1146" name="오른쪽 화살표 78"/>
              <p:cNvSpPr/>
              <p:nvPr/>
            </p:nvSpPr>
            <p:spPr>
              <a:xfrm flipH="1">
                <a:off x="5877000" y="5234040"/>
                <a:ext cx="455040" cy="352800"/>
              </a:xfrm>
              <a:prstGeom prst="rightArrow">
                <a:avLst>
                  <a:gd name="adj1" fmla="val 60000"/>
                  <a:gd name="adj2" fmla="val 49878"/>
                </a:avLst>
              </a:prstGeom>
              <a:solidFill>
                <a:srgbClr val="4d49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오른쪽 화살표 26"/>
              <p:cNvSpPr/>
              <p:nvPr/>
            </p:nvSpPr>
            <p:spPr>
              <a:xfrm flipH="1">
                <a:off x="5982840" y="5303880"/>
                <a:ext cx="348840" cy="21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300"/>
                  </a:spcAft>
                  <a:tabLst>
                    <a:tab algn="l" pos="0"/>
                    <a:tab algn="l" pos="311040"/>
                    <a:tab algn="l" pos="622440"/>
                    <a:tab algn="l" pos="933480"/>
                    <a:tab algn="l" pos="1244520"/>
                    <a:tab algn="l" pos="1555920"/>
                    <a:tab algn="l" pos="1866960"/>
                    <a:tab algn="l" pos="2178000"/>
                    <a:tab algn="l" pos="2489040"/>
                    <a:tab algn="l" pos="2800440"/>
                    <a:tab algn="l" pos="3111480"/>
                    <a:tab algn="l" pos="3422520"/>
                    <a:tab algn="l" pos="3733920"/>
                    <a:tab algn="l" pos="4044960"/>
                    <a:tab algn="l" pos="4356000"/>
                    <a:tab algn="l" pos="4667400"/>
                    <a:tab algn="l" pos="4978440"/>
                    <a:tab algn="l" pos="5289480"/>
                    <a:tab algn="l" pos="5600880"/>
                    <a:tab algn="l" pos="5911920"/>
                    <a:tab algn="l" pos="6222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8" name="그룹 62"/>
            <p:cNvGrpSpPr/>
            <p:nvPr/>
          </p:nvGrpSpPr>
          <p:grpSpPr>
            <a:xfrm>
              <a:off x="2786400" y="5234040"/>
              <a:ext cx="455040" cy="352800"/>
              <a:chOff x="2786400" y="5234040"/>
              <a:chExt cx="455040" cy="352800"/>
            </a:xfrm>
          </p:grpSpPr>
          <p:sp>
            <p:nvSpPr>
              <p:cNvPr id="1149" name="오른쪽 화살표 72"/>
              <p:cNvSpPr/>
              <p:nvPr/>
            </p:nvSpPr>
            <p:spPr>
              <a:xfrm flipH="1">
                <a:off x="2786400" y="5234040"/>
                <a:ext cx="455040" cy="352800"/>
              </a:xfrm>
              <a:prstGeom prst="rightArrow">
                <a:avLst>
                  <a:gd name="adj1" fmla="val 60000"/>
                  <a:gd name="adj2" fmla="val 49878"/>
                </a:avLst>
              </a:prstGeom>
              <a:solidFill>
                <a:srgbClr val="624b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오른쪽 화살표 32"/>
              <p:cNvSpPr/>
              <p:nvPr/>
            </p:nvSpPr>
            <p:spPr>
              <a:xfrm flipH="1">
                <a:off x="2892240" y="5303880"/>
                <a:ext cx="348840" cy="21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300"/>
                  </a:spcAft>
                  <a:tabLst>
                    <a:tab algn="l" pos="0"/>
                    <a:tab algn="l" pos="311040"/>
                    <a:tab algn="l" pos="622440"/>
                    <a:tab algn="l" pos="933480"/>
                    <a:tab algn="l" pos="1244520"/>
                    <a:tab algn="l" pos="1555920"/>
                    <a:tab algn="l" pos="1866960"/>
                    <a:tab algn="l" pos="2178000"/>
                    <a:tab algn="l" pos="2489040"/>
                    <a:tab algn="l" pos="2800440"/>
                    <a:tab algn="l" pos="3111480"/>
                    <a:tab algn="l" pos="3422520"/>
                    <a:tab algn="l" pos="3733920"/>
                    <a:tab algn="l" pos="4044960"/>
                    <a:tab algn="l" pos="4356000"/>
                    <a:tab algn="l" pos="4667400"/>
                    <a:tab algn="l" pos="4978440"/>
                    <a:tab algn="l" pos="5289480"/>
                    <a:tab algn="l" pos="5600880"/>
                    <a:tab algn="l" pos="5911920"/>
                    <a:tab algn="l" pos="6222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1" name="그룹 128"/>
            <p:cNvGrpSpPr/>
            <p:nvPr/>
          </p:nvGrpSpPr>
          <p:grpSpPr>
            <a:xfrm>
              <a:off x="334080" y="2300400"/>
              <a:ext cx="8476920" cy="1500120"/>
              <a:chOff x="334080" y="2300400"/>
              <a:chExt cx="8476920" cy="1500120"/>
            </a:xfrm>
          </p:grpSpPr>
          <p:grpSp>
            <p:nvGrpSpPr>
              <p:cNvPr id="1152" name="그룹 41"/>
              <p:cNvGrpSpPr/>
              <p:nvPr/>
            </p:nvGrpSpPr>
            <p:grpSpPr>
              <a:xfrm>
                <a:off x="2877840" y="3027960"/>
                <a:ext cx="455040" cy="352800"/>
                <a:chOff x="2877840" y="3027960"/>
                <a:chExt cx="455040" cy="352800"/>
              </a:xfrm>
            </p:grpSpPr>
            <p:sp>
              <p:nvSpPr>
                <p:cNvPr id="1153" name="오른쪽 화살표 96"/>
                <p:cNvSpPr/>
                <p:nvPr/>
              </p:nvSpPr>
              <p:spPr>
                <a:xfrm>
                  <a:off x="2877840" y="3027960"/>
                  <a:ext cx="455040" cy="352800"/>
                </a:xfrm>
                <a:prstGeom prst="rightArrow">
                  <a:avLst>
                    <a:gd name="adj1" fmla="val 60000"/>
                    <a:gd name="adj2" fmla="val 51675"/>
                  </a:avLst>
                </a:prstGeom>
                <a:solidFill>
                  <a:srgbClr val="4380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4" name="오른쪽 화살표 8"/>
                <p:cNvSpPr/>
                <p:nvPr/>
              </p:nvSpPr>
              <p:spPr>
                <a:xfrm>
                  <a:off x="2877840" y="3107520"/>
                  <a:ext cx="348840" cy="20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300"/>
                    </a:spcAft>
                    <a:tabLst>
                      <a:tab algn="l" pos="0"/>
                      <a:tab algn="l" pos="311040"/>
                      <a:tab algn="l" pos="622440"/>
                      <a:tab algn="l" pos="933480"/>
                      <a:tab algn="l" pos="1244520"/>
                      <a:tab algn="l" pos="1555920"/>
                      <a:tab algn="l" pos="1866960"/>
                      <a:tab algn="l" pos="2178000"/>
                      <a:tab algn="l" pos="2489040"/>
                      <a:tab algn="l" pos="2800440"/>
                      <a:tab algn="l" pos="3111480"/>
                      <a:tab algn="l" pos="3422520"/>
                      <a:tab algn="l" pos="3733920"/>
                      <a:tab algn="l" pos="4044960"/>
                      <a:tab algn="l" pos="4356000"/>
                      <a:tab algn="l" pos="4667400"/>
                      <a:tab algn="l" pos="4978440"/>
                      <a:tab algn="l" pos="5289480"/>
                      <a:tab algn="l" pos="5600880"/>
                      <a:tab algn="l" pos="5911920"/>
                      <a:tab algn="l" pos="62229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5" name="그룹 52"/>
              <p:cNvGrpSpPr/>
              <p:nvPr/>
            </p:nvGrpSpPr>
            <p:grpSpPr>
              <a:xfrm>
                <a:off x="5949720" y="3027960"/>
                <a:ext cx="455040" cy="352800"/>
                <a:chOff x="5949720" y="3027960"/>
                <a:chExt cx="455040" cy="352800"/>
              </a:xfrm>
            </p:grpSpPr>
            <p:sp>
              <p:nvSpPr>
                <p:cNvPr id="1156" name="오른쪽 화살표 90"/>
                <p:cNvSpPr/>
                <p:nvPr/>
              </p:nvSpPr>
              <p:spPr>
                <a:xfrm>
                  <a:off x="5949720" y="3027960"/>
                  <a:ext cx="455040" cy="352800"/>
                </a:xfrm>
                <a:prstGeom prst="rightArrow">
                  <a:avLst>
                    <a:gd name="adj1" fmla="val 60000"/>
                    <a:gd name="adj2" fmla="val 53156"/>
                  </a:avLst>
                </a:prstGeom>
                <a:solidFill>
                  <a:srgbClr val="456b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7" name="오른쪽 화살표 14"/>
                <p:cNvSpPr/>
                <p:nvPr/>
              </p:nvSpPr>
              <p:spPr>
                <a:xfrm>
                  <a:off x="5949720" y="3107520"/>
                  <a:ext cx="358920" cy="20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300"/>
                    </a:spcAft>
                    <a:tabLst>
                      <a:tab algn="l" pos="0"/>
                      <a:tab algn="l" pos="311040"/>
                      <a:tab algn="l" pos="622440"/>
                      <a:tab algn="l" pos="933480"/>
                      <a:tab algn="l" pos="1244520"/>
                      <a:tab algn="l" pos="1555920"/>
                      <a:tab algn="l" pos="1866960"/>
                      <a:tab algn="l" pos="2178000"/>
                      <a:tab algn="l" pos="2489040"/>
                      <a:tab algn="l" pos="2800440"/>
                      <a:tab algn="l" pos="3111480"/>
                      <a:tab algn="l" pos="3422520"/>
                      <a:tab algn="l" pos="3733920"/>
                      <a:tab algn="l" pos="4044960"/>
                      <a:tab algn="l" pos="4356000"/>
                      <a:tab algn="l" pos="4667400"/>
                      <a:tab algn="l" pos="4978440"/>
                      <a:tab algn="l" pos="5289480"/>
                      <a:tab algn="l" pos="5600880"/>
                      <a:tab algn="l" pos="5911920"/>
                      <a:tab algn="l" pos="62229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8" name="그룹 123"/>
              <p:cNvGrpSpPr/>
              <p:nvPr/>
            </p:nvGrpSpPr>
            <p:grpSpPr>
              <a:xfrm>
                <a:off x="334080" y="2300400"/>
                <a:ext cx="2428920" cy="1500120"/>
                <a:chOff x="334080" y="2300400"/>
                <a:chExt cx="2428920" cy="1500120"/>
              </a:xfrm>
            </p:grpSpPr>
            <p:grpSp>
              <p:nvGrpSpPr>
                <p:cNvPr id="1159" name="그룹 111"/>
                <p:cNvGrpSpPr/>
                <p:nvPr/>
              </p:nvGrpSpPr>
              <p:grpSpPr>
                <a:xfrm>
                  <a:off x="334080" y="2300400"/>
                  <a:ext cx="2428920" cy="1500120"/>
                  <a:chOff x="334080" y="2300400"/>
                  <a:chExt cx="2428920" cy="1500120"/>
                </a:xfrm>
              </p:grpSpPr>
              <p:grpSp>
                <p:nvGrpSpPr>
                  <p:cNvPr id="1160" name="그룹 39"/>
                  <p:cNvGrpSpPr/>
                  <p:nvPr/>
                </p:nvGrpSpPr>
                <p:grpSpPr>
                  <a:xfrm>
                    <a:off x="334080" y="2300400"/>
                    <a:ext cx="1820520" cy="812880"/>
                    <a:chOff x="334080" y="2300400"/>
                    <a:chExt cx="1820520" cy="812880"/>
                  </a:xfrm>
                </p:grpSpPr>
                <p:sp>
                  <p:nvSpPr>
                    <p:cNvPr id="1161" name="모서리가 둥근 직사각형 100"/>
                    <p:cNvSpPr/>
                    <p:nvPr/>
                  </p:nvSpPr>
                  <p:spPr>
                    <a:xfrm>
                      <a:off x="334080" y="2300400"/>
                      <a:ext cx="1820520" cy="81288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438086"/>
                    </a:solidFill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2" name="모서리가 둥근 직사각형 4"/>
                    <p:cNvSpPr/>
                    <p:nvPr/>
                  </p:nvSpPr>
                  <p:spPr>
                    <a:xfrm>
                      <a:off x="334080" y="2300400"/>
                      <a:ext cx="1820520" cy="496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381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37"/>
                        </a:spcAft>
                        <a:tabLst>
                          <a:tab algn="l" pos="0"/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63" name="모서리가 둥근 직사각형 98"/>
                  <p:cNvSpPr/>
                  <p:nvPr/>
                </p:nvSpPr>
                <p:spPr>
                  <a:xfrm>
                    <a:off x="405000" y="2602080"/>
                    <a:ext cx="2358000" cy="119844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ffffff">
                      <a:alpha val="90000"/>
                    </a:srgbClr>
                  </a:solidFill>
                  <a:ln w="19080">
                    <a:solidFill>
                      <a:srgbClr val="43808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문제가 존재 한다는 사실을 정확하게 인지하는 단계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64" name="TextBox 115"/>
                <p:cNvSpPr/>
                <p:nvPr/>
              </p:nvSpPr>
              <p:spPr>
                <a:xfrm>
                  <a:off x="570960" y="2300400"/>
                  <a:ext cx="925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1800" spc="-1" strike="noStrike">
                      <a:solidFill>
                        <a:srgbClr val="ffffff"/>
                      </a:solidFill>
                      <a:latin typeface="휴먼모음T"/>
                      <a:ea typeface="휴먼모음T"/>
                    </a:rPr>
                    <a:t>문제의 인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5" name="그룹 124"/>
              <p:cNvGrpSpPr/>
              <p:nvPr/>
            </p:nvGrpSpPr>
            <p:grpSpPr>
              <a:xfrm>
                <a:off x="3434760" y="2300400"/>
                <a:ext cx="2370960" cy="1500120"/>
                <a:chOff x="3434760" y="2300400"/>
                <a:chExt cx="2370960" cy="1500120"/>
              </a:xfrm>
            </p:grpSpPr>
            <p:grpSp>
              <p:nvGrpSpPr>
                <p:cNvPr id="1166" name="그룹 112"/>
                <p:cNvGrpSpPr/>
                <p:nvPr/>
              </p:nvGrpSpPr>
              <p:grpSpPr>
                <a:xfrm>
                  <a:off x="3434760" y="2300400"/>
                  <a:ext cx="2370960" cy="1500120"/>
                  <a:chOff x="3434760" y="2300400"/>
                  <a:chExt cx="2370960" cy="1500120"/>
                </a:xfrm>
              </p:grpSpPr>
              <p:grpSp>
                <p:nvGrpSpPr>
                  <p:cNvPr id="1167" name="그룹 42"/>
                  <p:cNvGrpSpPr/>
                  <p:nvPr/>
                </p:nvGrpSpPr>
                <p:grpSpPr>
                  <a:xfrm>
                    <a:off x="3434760" y="2300400"/>
                    <a:ext cx="1811520" cy="812520"/>
                    <a:chOff x="3434760" y="2300400"/>
                    <a:chExt cx="1811520" cy="812520"/>
                  </a:xfrm>
                </p:grpSpPr>
                <p:sp>
                  <p:nvSpPr>
                    <p:cNvPr id="1168" name="모서리가 둥근 직사각형 94"/>
                    <p:cNvSpPr/>
                    <p:nvPr/>
                  </p:nvSpPr>
                  <p:spPr>
                    <a:xfrm>
                      <a:off x="3434760" y="2300400"/>
                      <a:ext cx="1811520" cy="81252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456f86"/>
                    </a:solidFill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9" name="모서리가 둥근 직사각형 10"/>
                    <p:cNvSpPr/>
                    <p:nvPr/>
                  </p:nvSpPr>
                  <p:spPr>
                    <a:xfrm>
                      <a:off x="3434760" y="2300400"/>
                      <a:ext cx="1811520" cy="496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381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37"/>
                        </a:spcAft>
                        <a:tabLst>
                          <a:tab algn="l" pos="0"/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70" name="그룹 43"/>
                  <p:cNvGrpSpPr/>
                  <p:nvPr/>
                </p:nvGrpSpPr>
                <p:grpSpPr>
                  <a:xfrm>
                    <a:off x="3506040" y="2601720"/>
                    <a:ext cx="2299680" cy="1198800"/>
                    <a:chOff x="3506040" y="2601720"/>
                    <a:chExt cx="2299680" cy="1198800"/>
                  </a:xfrm>
                </p:grpSpPr>
                <p:sp>
                  <p:nvSpPr>
                    <p:cNvPr id="1171" name="모서리가 둥근 직사각형 92"/>
                    <p:cNvSpPr/>
                    <p:nvPr/>
                  </p:nvSpPr>
                  <p:spPr>
                    <a:xfrm>
                      <a:off x="3506040" y="2601720"/>
                      <a:ext cx="2261880" cy="119880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ffffff">
                        <a:alpha val="90000"/>
                      </a:srgbClr>
                    </a:solidFill>
                    <a:ln w="19080">
                      <a:solidFill>
                        <a:srgbClr val="456f8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문제의 본질을 확인하고 문제해결의 제약요건들을 확인하는 단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2" name="모서리가 둥근 직사각형 12"/>
                    <p:cNvSpPr/>
                    <p:nvPr/>
                  </p:nvSpPr>
                  <p:spPr>
                    <a:xfrm>
                      <a:off x="3659040" y="2636640"/>
                      <a:ext cx="2146680" cy="1128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71280" anchor="t">
                      <a:noAutofit/>
                    </a:bodyPr>
                    <a:p>
                      <a:pPr lvl="1" marL="57240" indent="-57240">
                        <a:lnSpc>
                          <a:spcPct val="90000"/>
                        </a:lnSpc>
                        <a:spcAft>
                          <a:spcPts val="187"/>
                        </a:spcAft>
                        <a:buClr>
                          <a:srgbClr val="000000"/>
                        </a:buClr>
                        <a:buFont typeface="휴먼모음T"/>
                        <a:buChar char="•"/>
                        <a:tabLst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173" name="TextBox 117"/>
                <p:cNvSpPr/>
                <p:nvPr/>
              </p:nvSpPr>
              <p:spPr>
                <a:xfrm>
                  <a:off x="3671640" y="2300400"/>
                  <a:ext cx="925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1800" spc="-1" strike="noStrike">
                      <a:solidFill>
                        <a:srgbClr val="ffffff"/>
                      </a:solidFill>
                      <a:latin typeface="휴먼모음T"/>
                      <a:ea typeface="휴먼모음T"/>
                    </a:rPr>
                    <a:t>문제의 정의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4" name="그룹 125"/>
              <p:cNvGrpSpPr/>
              <p:nvPr/>
            </p:nvGrpSpPr>
            <p:grpSpPr>
              <a:xfrm>
                <a:off x="6477840" y="2300400"/>
                <a:ext cx="2333160" cy="1500120"/>
                <a:chOff x="6477840" y="2300400"/>
                <a:chExt cx="2333160" cy="1500120"/>
              </a:xfrm>
            </p:grpSpPr>
            <p:grpSp>
              <p:nvGrpSpPr>
                <p:cNvPr id="1175" name="그룹 109"/>
                <p:cNvGrpSpPr/>
                <p:nvPr/>
              </p:nvGrpSpPr>
              <p:grpSpPr>
                <a:xfrm>
                  <a:off x="6477840" y="2300400"/>
                  <a:ext cx="2333160" cy="1500120"/>
                  <a:chOff x="6477840" y="2300400"/>
                  <a:chExt cx="2333160" cy="1500120"/>
                </a:xfrm>
              </p:grpSpPr>
              <p:grpSp>
                <p:nvGrpSpPr>
                  <p:cNvPr id="1176" name="그룹 54"/>
                  <p:cNvGrpSpPr/>
                  <p:nvPr/>
                </p:nvGrpSpPr>
                <p:grpSpPr>
                  <a:xfrm>
                    <a:off x="6477840" y="2300400"/>
                    <a:ext cx="1811880" cy="812880"/>
                    <a:chOff x="6477840" y="2300400"/>
                    <a:chExt cx="1811880" cy="812880"/>
                  </a:xfrm>
                </p:grpSpPr>
                <p:sp>
                  <p:nvSpPr>
                    <p:cNvPr id="1177" name="모서리가 둥근 직사각형 88"/>
                    <p:cNvSpPr/>
                    <p:nvPr/>
                  </p:nvSpPr>
                  <p:spPr>
                    <a:xfrm>
                      <a:off x="6477840" y="2300400"/>
                      <a:ext cx="1811880" cy="81288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465f85"/>
                    </a:solidFill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8" name="모서리가 둥근 직사각형 16"/>
                    <p:cNvSpPr/>
                    <p:nvPr/>
                  </p:nvSpPr>
                  <p:spPr>
                    <a:xfrm>
                      <a:off x="6477840" y="2300400"/>
                      <a:ext cx="1811880" cy="496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381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37"/>
                        </a:spcAft>
                        <a:tabLst>
                          <a:tab algn="l" pos="0"/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79" name="모서리가 둥근 직사각형 86"/>
                  <p:cNvSpPr/>
                  <p:nvPr/>
                </p:nvSpPr>
                <p:spPr>
                  <a:xfrm>
                    <a:off x="6537240" y="2602080"/>
                    <a:ext cx="2273760" cy="119844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ffffff">
                      <a:alpha val="90000"/>
                    </a:srgbClr>
                  </a:solidFill>
                  <a:ln w="19080">
                    <a:solidFill>
                      <a:srgbClr val="465f8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문제를 다른 말로 진술하거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,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과거 문제와 관련 짓거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,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시각적으로 표현하는 단계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0" name="TextBox 118"/>
                <p:cNvSpPr/>
                <p:nvPr/>
              </p:nvSpPr>
              <p:spPr>
                <a:xfrm>
                  <a:off x="6714720" y="2300400"/>
                  <a:ext cx="925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1800" spc="-1" strike="noStrike">
                      <a:solidFill>
                        <a:srgbClr val="ffffff"/>
                      </a:solidFill>
                      <a:latin typeface="휴먼모음T"/>
                      <a:ea typeface="휴먼모음T"/>
                    </a:rPr>
                    <a:t>문제의 표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1" name="그룹 126"/>
            <p:cNvGrpSpPr/>
            <p:nvPr/>
          </p:nvGrpSpPr>
          <p:grpSpPr>
            <a:xfrm>
              <a:off x="6500880" y="4449960"/>
              <a:ext cx="2333520" cy="1500120"/>
              <a:chOff x="6500880" y="4449960"/>
              <a:chExt cx="2333520" cy="1500120"/>
            </a:xfrm>
          </p:grpSpPr>
          <p:grpSp>
            <p:nvGrpSpPr>
              <p:cNvPr id="1182" name="그룹 108"/>
              <p:cNvGrpSpPr/>
              <p:nvPr/>
            </p:nvGrpSpPr>
            <p:grpSpPr>
              <a:xfrm>
                <a:off x="6500880" y="4449960"/>
                <a:ext cx="2333520" cy="1500120"/>
                <a:chOff x="6500880" y="4449960"/>
                <a:chExt cx="2333520" cy="1500120"/>
              </a:xfrm>
            </p:grpSpPr>
            <p:grpSp>
              <p:nvGrpSpPr>
                <p:cNvPr id="1183" name="그룹 57"/>
                <p:cNvGrpSpPr/>
                <p:nvPr/>
              </p:nvGrpSpPr>
              <p:grpSpPr>
                <a:xfrm>
                  <a:off x="6500880" y="4449960"/>
                  <a:ext cx="1811880" cy="812880"/>
                  <a:chOff x="6500880" y="4449960"/>
                  <a:chExt cx="1811880" cy="812880"/>
                </a:xfrm>
              </p:grpSpPr>
              <p:sp>
                <p:nvSpPr>
                  <p:cNvPr id="1184" name="모서리가 둥근 직사각형 82"/>
                  <p:cNvSpPr/>
                  <p:nvPr/>
                </p:nvSpPr>
                <p:spPr>
                  <a:xfrm>
                    <a:off x="6500880" y="4449960"/>
                    <a:ext cx="1811880" cy="81288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485085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5" name="모서리가 둥근 직사각형 22"/>
                  <p:cNvSpPr/>
                  <p:nvPr/>
                </p:nvSpPr>
                <p:spPr>
                  <a:xfrm>
                    <a:off x="6500880" y="4449960"/>
                    <a:ext cx="1811880" cy="496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71280" bIns="38160" anchor="t">
                    <a:noAutofit/>
                  </a:bodyPr>
                  <a:p>
                    <a:pPr>
                      <a:lnSpc>
                        <a:spcPct val="90000"/>
                      </a:lnSpc>
                      <a:spcAft>
                        <a:spcPts val="437"/>
                      </a:spcAft>
                      <a:tabLst>
                        <a:tab algn="l" pos="0"/>
                        <a:tab algn="l" pos="444600"/>
                        <a:tab algn="l" pos="888840"/>
                        <a:tab algn="l" pos="1333440"/>
                        <a:tab algn="l" pos="1778040"/>
                        <a:tab algn="l" pos="2222640"/>
                        <a:tab algn="l" pos="2666880"/>
                        <a:tab algn="l" pos="3111480"/>
                        <a:tab algn="l" pos="3556080"/>
                        <a:tab algn="l" pos="4000680"/>
                        <a:tab algn="l" pos="4444920"/>
                        <a:tab algn="l" pos="4889520"/>
                        <a:tab algn="l" pos="5334120"/>
                        <a:tab algn="l" pos="5778360"/>
                        <a:tab algn="l" pos="6222960"/>
                        <a:tab algn="l" pos="6667560"/>
                        <a:tab algn="l" pos="7112160"/>
                        <a:tab algn="l" pos="7556400"/>
                        <a:tab algn="l" pos="8001000"/>
                        <a:tab algn="l" pos="8445600"/>
                        <a:tab algn="l" pos="88898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6" name="모서리가 둥근 직사각형 80"/>
                <p:cNvSpPr/>
                <p:nvPr/>
              </p:nvSpPr>
              <p:spPr>
                <a:xfrm>
                  <a:off x="6584400" y="4751280"/>
                  <a:ext cx="2250000" cy="1198800"/>
                </a:xfrm>
                <a:prstGeom prst="roundRect">
                  <a:avLst>
                    <a:gd name="adj" fmla="val 10000"/>
                  </a:avLst>
                </a:prstGeom>
                <a:solidFill>
                  <a:srgbClr val="ffffff">
                    <a:alpha val="90000"/>
                  </a:srgbClr>
                </a:solidFill>
                <a:ln w="19080">
                  <a:solidFill>
                    <a:srgbClr val="4850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문제해결전략들을 생성한 후 가장 적절한 전략을 선택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실행하는 단계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7" name="TextBox 119"/>
              <p:cNvSpPr/>
              <p:nvPr/>
            </p:nvSpPr>
            <p:spPr>
              <a:xfrm>
                <a:off x="6636240" y="4449960"/>
                <a:ext cx="1535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문제해결전략의 선택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1" lang="ko-KR" sz="14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실행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8" name="그룹 127"/>
            <p:cNvGrpSpPr/>
            <p:nvPr/>
          </p:nvGrpSpPr>
          <p:grpSpPr>
            <a:xfrm>
              <a:off x="3378240" y="4449960"/>
              <a:ext cx="2333160" cy="1500480"/>
              <a:chOff x="3378240" y="4449960"/>
              <a:chExt cx="2333160" cy="1500480"/>
            </a:xfrm>
          </p:grpSpPr>
          <p:grpSp>
            <p:nvGrpSpPr>
              <p:cNvPr id="1189" name="그룹 113"/>
              <p:cNvGrpSpPr/>
              <p:nvPr/>
            </p:nvGrpSpPr>
            <p:grpSpPr>
              <a:xfrm>
                <a:off x="3378240" y="4449960"/>
                <a:ext cx="2333160" cy="1500480"/>
                <a:chOff x="3378240" y="4449960"/>
                <a:chExt cx="2333160" cy="1500480"/>
              </a:xfrm>
            </p:grpSpPr>
            <p:grpSp>
              <p:nvGrpSpPr>
                <p:cNvPr id="1190" name="그룹 60"/>
                <p:cNvGrpSpPr/>
                <p:nvPr/>
              </p:nvGrpSpPr>
              <p:grpSpPr>
                <a:xfrm>
                  <a:off x="3378240" y="4449960"/>
                  <a:ext cx="1811160" cy="812880"/>
                  <a:chOff x="3378240" y="4449960"/>
                  <a:chExt cx="1811160" cy="812880"/>
                </a:xfrm>
              </p:grpSpPr>
              <p:sp>
                <p:nvSpPr>
                  <p:cNvPr id="1191" name="모서리가 둥근 직사각형 76"/>
                  <p:cNvSpPr/>
                  <p:nvPr/>
                </p:nvSpPr>
                <p:spPr>
                  <a:xfrm>
                    <a:off x="3378240" y="4449960"/>
                    <a:ext cx="1811160" cy="81288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514a85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2" name="모서리가 둥근 직사각형 28"/>
                  <p:cNvSpPr/>
                  <p:nvPr/>
                </p:nvSpPr>
                <p:spPr>
                  <a:xfrm>
                    <a:off x="3378240" y="4449960"/>
                    <a:ext cx="1811160" cy="496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71280" bIns="38160" anchor="t">
                    <a:noAutofit/>
                  </a:bodyPr>
                  <a:p>
                    <a:pPr>
                      <a:lnSpc>
                        <a:spcPct val="90000"/>
                      </a:lnSpc>
                      <a:spcAft>
                        <a:spcPts val="437"/>
                      </a:spcAft>
                      <a:tabLst>
                        <a:tab algn="l" pos="0"/>
                        <a:tab algn="l" pos="444600"/>
                        <a:tab algn="l" pos="888840"/>
                        <a:tab algn="l" pos="1333440"/>
                        <a:tab algn="l" pos="1778040"/>
                        <a:tab algn="l" pos="2222640"/>
                        <a:tab algn="l" pos="2666880"/>
                        <a:tab algn="l" pos="3111480"/>
                        <a:tab algn="l" pos="3556080"/>
                        <a:tab algn="l" pos="4000680"/>
                        <a:tab algn="l" pos="4444920"/>
                        <a:tab algn="l" pos="4889520"/>
                        <a:tab algn="l" pos="5334120"/>
                        <a:tab algn="l" pos="5778360"/>
                        <a:tab algn="l" pos="6222960"/>
                        <a:tab algn="l" pos="6667560"/>
                        <a:tab algn="l" pos="7112160"/>
                        <a:tab algn="l" pos="7556400"/>
                        <a:tab algn="l" pos="8001000"/>
                        <a:tab algn="l" pos="8445600"/>
                        <a:tab algn="l" pos="88898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3" name="모서리가 둥근 직사각형 74"/>
                <p:cNvSpPr/>
                <p:nvPr/>
              </p:nvSpPr>
              <p:spPr>
                <a:xfrm>
                  <a:off x="3449520" y="4751640"/>
                  <a:ext cx="2261880" cy="1198800"/>
                </a:xfrm>
                <a:prstGeom prst="roundRect">
                  <a:avLst>
                    <a:gd name="adj" fmla="val 10000"/>
                  </a:avLst>
                </a:prstGeom>
                <a:solidFill>
                  <a:srgbClr val="ffffff">
                    <a:alpha val="90000"/>
                  </a:srgbClr>
                </a:solidFill>
                <a:ln w="19080">
                  <a:solidFill>
                    <a:srgbClr val="514a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문제를 해결하는 도중 문제가 제대로 해결되고 있는지 수시로 점검하는 단계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94" name="TextBox 120"/>
              <p:cNvSpPr/>
              <p:nvPr/>
            </p:nvSpPr>
            <p:spPr>
              <a:xfrm>
                <a:off x="3552120" y="4449960"/>
                <a:ext cx="1474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문제해결과정의 점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5" name="그룹 122"/>
            <p:cNvGrpSpPr/>
            <p:nvPr/>
          </p:nvGrpSpPr>
          <p:grpSpPr>
            <a:xfrm>
              <a:off x="298440" y="4443480"/>
              <a:ext cx="2332800" cy="1512720"/>
              <a:chOff x="298440" y="4443480"/>
              <a:chExt cx="2332800" cy="1512720"/>
            </a:xfrm>
          </p:grpSpPr>
          <p:grpSp>
            <p:nvGrpSpPr>
              <p:cNvPr id="1196" name="그룹 114"/>
              <p:cNvGrpSpPr/>
              <p:nvPr/>
            </p:nvGrpSpPr>
            <p:grpSpPr>
              <a:xfrm>
                <a:off x="298440" y="4455720"/>
                <a:ext cx="2332800" cy="1500480"/>
                <a:chOff x="298440" y="4455720"/>
                <a:chExt cx="2332800" cy="1500480"/>
              </a:xfrm>
            </p:grpSpPr>
            <p:grpSp>
              <p:nvGrpSpPr>
                <p:cNvPr id="1197" name="그룹 63"/>
                <p:cNvGrpSpPr/>
                <p:nvPr/>
              </p:nvGrpSpPr>
              <p:grpSpPr>
                <a:xfrm>
                  <a:off x="298440" y="4455720"/>
                  <a:ext cx="1810800" cy="812880"/>
                  <a:chOff x="298440" y="4455720"/>
                  <a:chExt cx="1810800" cy="812880"/>
                </a:xfrm>
              </p:grpSpPr>
              <p:sp>
                <p:nvSpPr>
                  <p:cNvPr id="1198" name="모서리가 둥근 직사각형 69"/>
                  <p:cNvSpPr/>
                  <p:nvPr/>
                </p:nvSpPr>
                <p:spPr>
                  <a:xfrm>
                    <a:off x="298440" y="4455720"/>
                    <a:ext cx="1810800" cy="81288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624b85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9" name="모서리가 둥근 직사각형 34"/>
                  <p:cNvSpPr/>
                  <p:nvPr/>
                </p:nvSpPr>
                <p:spPr>
                  <a:xfrm>
                    <a:off x="298440" y="4455720"/>
                    <a:ext cx="1810800" cy="496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71280" bIns="38160" anchor="t">
                    <a:noAutofit/>
                  </a:bodyPr>
                  <a:p>
                    <a:pPr>
                      <a:lnSpc>
                        <a:spcPct val="90000"/>
                      </a:lnSpc>
                      <a:spcAft>
                        <a:spcPts val="437"/>
                      </a:spcAft>
                      <a:tabLst>
                        <a:tab algn="l" pos="0"/>
                        <a:tab algn="l" pos="444600"/>
                        <a:tab algn="l" pos="888840"/>
                        <a:tab algn="l" pos="1333440"/>
                        <a:tab algn="l" pos="1778040"/>
                        <a:tab algn="l" pos="2222640"/>
                        <a:tab algn="l" pos="2666880"/>
                        <a:tab algn="l" pos="3111480"/>
                        <a:tab algn="l" pos="3556080"/>
                        <a:tab algn="l" pos="4000680"/>
                        <a:tab algn="l" pos="4444920"/>
                        <a:tab algn="l" pos="4889520"/>
                        <a:tab algn="l" pos="5334120"/>
                        <a:tab algn="l" pos="5778360"/>
                        <a:tab algn="l" pos="6222960"/>
                        <a:tab algn="l" pos="6667560"/>
                        <a:tab algn="l" pos="7112160"/>
                        <a:tab algn="l" pos="7556400"/>
                        <a:tab algn="l" pos="8001000"/>
                        <a:tab algn="l" pos="8445600"/>
                        <a:tab algn="l" pos="88898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00" name="모서리가 둥근 직사각형 67"/>
                <p:cNvSpPr/>
                <p:nvPr/>
              </p:nvSpPr>
              <p:spPr>
                <a:xfrm>
                  <a:off x="369720" y="4757400"/>
                  <a:ext cx="2261520" cy="1198800"/>
                </a:xfrm>
                <a:prstGeom prst="roundRect">
                  <a:avLst>
                    <a:gd name="adj" fmla="val 10000"/>
                  </a:avLst>
                </a:prstGeom>
                <a:solidFill>
                  <a:srgbClr val="ffffff">
                    <a:alpha val="90000"/>
                  </a:srgbClr>
                </a:solidFill>
                <a:ln w="19080">
                  <a:solidFill>
                    <a:srgbClr val="624b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문제를 해결한 다음 해결책의 적절성을 평가하는 단계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01" name="TextBox 121"/>
              <p:cNvSpPr/>
              <p:nvPr/>
            </p:nvSpPr>
            <p:spPr>
              <a:xfrm>
                <a:off x="497520" y="4443480"/>
                <a:ext cx="1200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문제해결의 평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02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0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04" name="직사각형 13"/>
              <p:cNvSpPr/>
              <p:nvPr/>
            </p:nvSpPr>
            <p:spPr>
              <a:xfrm>
                <a:off x="143676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해결의 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0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0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11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2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13" name="그룹 28"/>
          <p:cNvGrpSpPr/>
          <p:nvPr/>
        </p:nvGrpSpPr>
        <p:grpSpPr>
          <a:xfrm>
            <a:off x="4710240" y="2243160"/>
            <a:ext cx="4362480" cy="4186080"/>
            <a:chOff x="4710240" y="2243160"/>
            <a:chExt cx="4362480" cy="4186080"/>
          </a:xfrm>
        </p:grpSpPr>
        <p:sp>
          <p:nvSpPr>
            <p:cNvPr id="1214" name="모서리가 둥근 직사각형 21"/>
            <p:cNvSpPr/>
            <p:nvPr/>
          </p:nvSpPr>
          <p:spPr>
            <a:xfrm>
              <a:off x="4734000" y="2243160"/>
              <a:ext cx="4105440" cy="4186080"/>
            </a:xfrm>
            <a:custGeom>
              <a:avLst/>
              <a:gdLst>
                <a:gd name="textAreaLeft" fmla="*/ 81000 w 4105440"/>
                <a:gd name="textAreaRight" fmla="*/ 4024440 w 4105440"/>
                <a:gd name="textAreaTop" fmla="*/ 81000 h 4186080"/>
                <a:gd name="textAreaBottom" fmla="*/ 4105080 h 4186080"/>
              </a:gdLst>
              <a:ahLst/>
              <a:rect l="textAreaLeft" t="textAreaTop" r="textAreaRight" b="textAreaBottom"/>
              <a:pathLst>
                <a:path w="21600" h="22024">
                  <a:moveTo>
                    <a:pt x="1458" y="0"/>
                  </a:moveTo>
                  <a:arcTo wR="1458" hR="1458" stAng="16200000" swAng="-5400000"/>
                  <a:lnTo>
                    <a:pt x="0" y="20566"/>
                  </a:lnTo>
                  <a:arcTo wR="1458" hR="1458" stAng="10800000" swAng="-5400000"/>
                  <a:lnTo>
                    <a:pt x="20142" y="22024"/>
                  </a:lnTo>
                  <a:arcTo wR="1458" hR="1458" stAng="5400000" swAng="-5400000"/>
                  <a:lnTo>
                    <a:pt x="21600" y="1458"/>
                  </a:lnTo>
                  <a:arcTo wR="1458" hR="1458" stAng="0" swAng="-5400000"/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2240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직사각형 22"/>
            <p:cNvSpPr/>
            <p:nvPr/>
          </p:nvSpPr>
          <p:spPr>
            <a:xfrm>
              <a:off x="4734000" y="2671560"/>
              <a:ext cx="4105440" cy="500040"/>
            </a:xfrm>
            <a:prstGeom prst="rect">
              <a:avLst/>
            </a:prstGeom>
            <a:solidFill>
              <a:srgbClr val="224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직사각형 23"/>
            <p:cNvSpPr/>
            <p:nvPr/>
          </p:nvSpPr>
          <p:spPr>
            <a:xfrm>
              <a:off x="4710240" y="3214440"/>
              <a:ext cx="4362480" cy="31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698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과거 성공했던 전략에 집착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나머지 문제를 새로운 관점에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악하지 못하는 상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신태세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과거에 사용했던 방식으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를 해결하려는 성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념고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순된 증거에도 불구하고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념을 고집하는 경향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확증편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평소 신념이나 아이디어에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일치하는 정보만 탐색하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경향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TextBox 149"/>
            <p:cNvSpPr/>
            <p:nvPr/>
          </p:nvSpPr>
          <p:spPr>
            <a:xfrm>
              <a:off x="5315760" y="2742840"/>
              <a:ext cx="29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문제해결을 방해하는 요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8" name="그룹 27"/>
          <p:cNvGrpSpPr/>
          <p:nvPr/>
        </p:nvGrpSpPr>
        <p:grpSpPr>
          <a:xfrm>
            <a:off x="357120" y="2243160"/>
            <a:ext cx="4124520" cy="4186080"/>
            <a:chOff x="357120" y="2243160"/>
            <a:chExt cx="4124520" cy="4186080"/>
          </a:xfrm>
        </p:grpSpPr>
        <p:sp>
          <p:nvSpPr>
            <p:cNvPr id="1219" name="모서리가 둥근 직사각형 17"/>
            <p:cNvSpPr/>
            <p:nvPr/>
          </p:nvSpPr>
          <p:spPr>
            <a:xfrm>
              <a:off x="375840" y="2243160"/>
              <a:ext cx="4105800" cy="4186080"/>
            </a:xfrm>
            <a:custGeom>
              <a:avLst/>
              <a:gdLst>
                <a:gd name="textAreaLeft" fmla="*/ 81000 w 4105800"/>
                <a:gd name="textAreaRight" fmla="*/ 4024800 w 4105800"/>
                <a:gd name="textAreaTop" fmla="*/ 81000 h 4186080"/>
                <a:gd name="textAreaBottom" fmla="*/ 4105080 h 4186080"/>
              </a:gdLst>
              <a:ahLst/>
              <a:rect l="textAreaLeft" t="textAreaTop" r="textAreaRight" b="textAreaBottom"/>
              <a:pathLst>
                <a:path w="21600" h="22022">
                  <a:moveTo>
                    <a:pt x="1458" y="0"/>
                  </a:moveTo>
                  <a:arcTo wR="1458" hR="1458" stAng="16200000" swAng="-5400000"/>
                  <a:lnTo>
                    <a:pt x="0" y="20564"/>
                  </a:lnTo>
                  <a:arcTo wR="1458" hR="1458" stAng="10800000" swAng="-5400000"/>
                  <a:lnTo>
                    <a:pt x="20142" y="22022"/>
                  </a:lnTo>
                  <a:arcTo wR="1458" hR="1458" stAng="5400000" swAng="-5400000"/>
                  <a:lnTo>
                    <a:pt x="21600" y="1458"/>
                  </a:lnTo>
                  <a:arcTo wR="1458" hR="1458" stAng="0" swAng="-5400000"/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2240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직사각형 18"/>
            <p:cNvSpPr/>
            <p:nvPr/>
          </p:nvSpPr>
          <p:spPr>
            <a:xfrm>
              <a:off x="375840" y="2671560"/>
              <a:ext cx="4105800" cy="500040"/>
            </a:xfrm>
            <a:prstGeom prst="rect">
              <a:avLst/>
            </a:prstGeom>
            <a:solidFill>
              <a:srgbClr val="224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직사각형 19"/>
            <p:cNvSpPr/>
            <p:nvPr/>
          </p:nvSpPr>
          <p:spPr>
            <a:xfrm>
              <a:off x="357120" y="3510000"/>
              <a:ext cx="4124520" cy="229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698"/>
                </a:lnSpc>
                <a:spcAft>
                  <a:spcPts val="1199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통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를 해결하는데 필요한 정보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식하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비교하여 관계를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악하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결합하는 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부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을 잠시 제쳐 두고 다른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활동을 하면서 잠재의식수준에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을 모색하는 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TextBox 149"/>
            <p:cNvSpPr/>
            <p:nvPr/>
          </p:nvSpPr>
          <p:spPr>
            <a:xfrm>
              <a:off x="958680" y="2742840"/>
              <a:ext cx="294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문제해결을 촉진하는 요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3" name="그룹 17"/>
          <p:cNvGrpSpPr/>
          <p:nvPr/>
        </p:nvGrpSpPr>
        <p:grpSpPr>
          <a:xfrm>
            <a:off x="2889360" y="1928880"/>
            <a:ext cx="3483000" cy="552240"/>
            <a:chOff x="2889360" y="1928880"/>
            <a:chExt cx="3483000" cy="552240"/>
          </a:xfrm>
        </p:grpSpPr>
        <p:sp>
          <p:nvSpPr>
            <p:cNvPr id="1224" name="AutoShape 65"/>
            <p:cNvSpPr/>
            <p:nvPr/>
          </p:nvSpPr>
          <p:spPr>
            <a:xfrm>
              <a:off x="2889360" y="1928880"/>
              <a:ext cx="3483000" cy="552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69390a"/>
                </a:gs>
              </a:gsLst>
              <a:lin ang="5400000"/>
            </a:gradFill>
            <a:ln w="6480">
              <a:solidFill>
                <a:srgbClr val="6939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5" name="AutoShape 66"/>
            <p:cNvGrpSpPr/>
            <p:nvPr/>
          </p:nvGrpSpPr>
          <p:grpSpPr>
            <a:xfrm>
              <a:off x="3072240" y="1962720"/>
              <a:ext cx="3121200" cy="481680"/>
              <a:chOff x="3072240" y="1962720"/>
              <a:chExt cx="3121200" cy="481680"/>
            </a:xfrm>
          </p:grpSpPr>
          <p:pic>
            <p:nvPicPr>
              <p:cNvPr id="1226" name="AutoShape 66" descr=""/>
              <p:cNvPicPr/>
              <p:nvPr/>
            </p:nvPicPr>
            <p:blipFill>
              <a:blip r:embed="rId2"/>
              <a:stretch/>
            </p:blipFill>
            <p:spPr>
              <a:xfrm>
                <a:off x="3072240" y="1962720"/>
                <a:ext cx="3121200" cy="48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7" name=""/>
              <p:cNvSpPr/>
              <p:nvPr/>
            </p:nvSpPr>
            <p:spPr>
              <a:xfrm>
                <a:off x="3143880" y="2039760"/>
                <a:ext cx="297360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28" name="TextBox 16" descr=""/>
            <p:cNvPicPr/>
            <p:nvPr/>
          </p:nvPicPr>
          <p:blipFill>
            <a:blip r:embed="rId3"/>
            <a:stretch/>
          </p:blipFill>
          <p:spPr>
            <a:xfrm>
              <a:off x="3108960" y="1981080"/>
              <a:ext cx="3035880" cy="396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29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3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31" name="직사각형 13"/>
              <p:cNvSpPr/>
              <p:nvPr/>
            </p:nvSpPr>
            <p:spPr>
              <a:xfrm>
                <a:off x="1733760" y="1385640"/>
                <a:ext cx="220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해결에 영향을 주는 요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3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3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36" name="Freeform 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3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38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1" name="그룹 37"/>
          <p:cNvGrpSpPr/>
          <p:nvPr/>
        </p:nvGrpSpPr>
        <p:grpSpPr>
          <a:xfrm>
            <a:off x="357120" y="3429000"/>
            <a:ext cx="8501040" cy="3197160"/>
            <a:chOff x="357120" y="3429000"/>
            <a:chExt cx="8501040" cy="3197160"/>
          </a:xfrm>
        </p:grpSpPr>
        <p:grpSp>
          <p:nvGrpSpPr>
            <p:cNvPr id="782" name="그룹 91"/>
            <p:cNvGrpSpPr/>
            <p:nvPr/>
          </p:nvGrpSpPr>
          <p:grpSpPr>
            <a:xfrm>
              <a:off x="357120" y="3429000"/>
              <a:ext cx="8501040" cy="3197160"/>
              <a:chOff x="357120" y="3429000"/>
              <a:chExt cx="8501040" cy="3197160"/>
            </a:xfrm>
          </p:grpSpPr>
          <p:pic>
            <p:nvPicPr>
              <p:cNvPr id="783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357120" y="3429000"/>
                <a:ext cx="8501040" cy="3197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784" name="직사각형 26"/>
              <p:cNvSpPr/>
              <p:nvPr/>
            </p:nvSpPr>
            <p:spPr>
              <a:xfrm>
                <a:off x="1357200" y="3608280"/>
                <a:ext cx="7500960" cy="349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5" name="그룹 91"/>
            <p:cNvGrpSpPr/>
            <p:nvPr/>
          </p:nvGrpSpPr>
          <p:grpSpPr>
            <a:xfrm>
              <a:off x="859320" y="3746160"/>
              <a:ext cx="2507760" cy="551160"/>
              <a:chOff x="859320" y="3746160"/>
              <a:chExt cx="2507760" cy="551160"/>
            </a:xfrm>
          </p:grpSpPr>
          <p:grpSp>
            <p:nvGrpSpPr>
              <p:cNvPr id="786" name="그룹 34"/>
              <p:cNvGrpSpPr/>
              <p:nvPr/>
            </p:nvGrpSpPr>
            <p:grpSpPr>
              <a:xfrm>
                <a:off x="859320" y="3873240"/>
                <a:ext cx="354960" cy="337320"/>
                <a:chOff x="859320" y="3873240"/>
                <a:chExt cx="354960" cy="337320"/>
              </a:xfrm>
            </p:grpSpPr>
            <p:pic>
              <p:nvPicPr>
                <p:cNvPr id="787" name="Picture 177" descr="bull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59320" y="3906720"/>
                  <a:ext cx="354960" cy="265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88" name="TextBox 36"/>
                <p:cNvSpPr/>
                <p:nvPr/>
              </p:nvSpPr>
              <p:spPr>
                <a:xfrm>
                  <a:off x="859320" y="3873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9" name="직사각형 22"/>
              <p:cNvSpPr/>
              <p:nvPr/>
            </p:nvSpPr>
            <p:spPr>
              <a:xfrm>
                <a:off x="1618200" y="3746160"/>
                <a:ext cx="174888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적 전이와 부적 전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90" name="그룹 142"/>
          <p:cNvGrpSpPr/>
          <p:nvPr/>
        </p:nvGrpSpPr>
        <p:grpSpPr>
          <a:xfrm>
            <a:off x="993960" y="4357800"/>
            <a:ext cx="7183800" cy="916920"/>
            <a:chOff x="993960" y="4357800"/>
            <a:chExt cx="7183800" cy="916920"/>
          </a:xfrm>
        </p:grpSpPr>
        <p:grpSp>
          <p:nvGrpSpPr>
            <p:cNvPr id="791" name="그룹 97"/>
            <p:cNvGrpSpPr/>
            <p:nvPr/>
          </p:nvGrpSpPr>
          <p:grpSpPr>
            <a:xfrm>
              <a:off x="993960" y="4357800"/>
              <a:ext cx="295200" cy="337320"/>
              <a:chOff x="993960" y="4357800"/>
              <a:chExt cx="295200" cy="337320"/>
            </a:xfrm>
          </p:grpSpPr>
          <p:pic>
            <p:nvPicPr>
              <p:cNvPr id="792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1000080" y="4442400"/>
                <a:ext cx="284040" cy="221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3" name="TextBox 146"/>
              <p:cNvSpPr/>
              <p:nvPr/>
            </p:nvSpPr>
            <p:spPr>
              <a:xfrm>
                <a:off x="993960" y="4357800"/>
                <a:ext cx="295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4" name="직사각형 34"/>
            <p:cNvSpPr/>
            <p:nvPr/>
          </p:nvSpPr>
          <p:spPr>
            <a:xfrm>
              <a:off x="1857960" y="4357800"/>
              <a:ext cx="6319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적 전이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positive transfer) 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선행학습이 후속학습을 촉진하는 현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예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교학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95" name="TextBox 12" descr=""/>
          <p:cNvPicPr/>
          <p:nvPr/>
        </p:nvPicPr>
        <p:blipFill>
          <a:blip r:embed="rId4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796" name="그룹 35"/>
          <p:cNvGrpSpPr/>
          <p:nvPr/>
        </p:nvGrpSpPr>
        <p:grpSpPr>
          <a:xfrm>
            <a:off x="642960" y="3070080"/>
            <a:ext cx="8429760" cy="430200"/>
            <a:chOff x="642960" y="3070080"/>
            <a:chExt cx="8429760" cy="430200"/>
          </a:xfrm>
        </p:grpSpPr>
        <p:grpSp>
          <p:nvGrpSpPr>
            <p:cNvPr id="797" name="그룹 48"/>
            <p:cNvGrpSpPr/>
            <p:nvPr/>
          </p:nvGrpSpPr>
          <p:grpSpPr>
            <a:xfrm>
              <a:off x="642960" y="3098520"/>
              <a:ext cx="8429760" cy="401760"/>
              <a:chOff x="642960" y="3098520"/>
              <a:chExt cx="8429760" cy="401760"/>
            </a:xfrm>
          </p:grpSpPr>
          <p:sp>
            <p:nvSpPr>
              <p:cNvPr id="798" name="직사각형 13"/>
              <p:cNvSpPr/>
              <p:nvPr/>
            </p:nvSpPr>
            <p:spPr>
              <a:xfrm>
                <a:off x="1295640" y="309852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직선 연결선 18"/>
              <p:cNvSpPr/>
              <p:nvPr/>
            </p:nvSpPr>
            <p:spPr>
              <a:xfrm>
                <a:off x="642960" y="34988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0" name="그룹 49"/>
            <p:cNvGrpSpPr/>
            <p:nvPr/>
          </p:nvGrpSpPr>
          <p:grpSpPr>
            <a:xfrm>
              <a:off x="671400" y="3107880"/>
              <a:ext cx="328320" cy="319320"/>
              <a:chOff x="671400" y="3107880"/>
              <a:chExt cx="328320" cy="319320"/>
            </a:xfrm>
          </p:grpSpPr>
          <p:sp>
            <p:nvSpPr>
              <p:cNvPr id="801" name="AutoShape 4"/>
              <p:cNvSpPr/>
              <p:nvPr/>
            </p:nvSpPr>
            <p:spPr>
              <a:xfrm>
                <a:off x="671400" y="31078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02" name="Freeform 5"/>
              <p:cNvGrpSpPr/>
              <p:nvPr/>
            </p:nvGrpSpPr>
            <p:grpSpPr>
              <a:xfrm>
                <a:off x="688680" y="3120480"/>
                <a:ext cx="170640" cy="171000"/>
                <a:chOff x="688680" y="3120480"/>
                <a:chExt cx="170640" cy="171000"/>
              </a:xfrm>
            </p:grpSpPr>
            <p:pic>
              <p:nvPicPr>
                <p:cNvPr id="803" name="Freeform 5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88680" y="312048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04" name=""/>
                <p:cNvSpPr/>
                <p:nvPr/>
              </p:nvSpPr>
              <p:spPr>
                <a:xfrm>
                  <a:off x="691920" y="31280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05" name="TextBox 88"/>
            <p:cNvSpPr/>
            <p:nvPr/>
          </p:nvSpPr>
          <p:spPr>
            <a:xfrm>
              <a:off x="678600" y="30700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6" name="그룹 90"/>
          <p:cNvGrpSpPr/>
          <p:nvPr/>
        </p:nvGrpSpPr>
        <p:grpSpPr>
          <a:xfrm>
            <a:off x="996840" y="5146560"/>
            <a:ext cx="8147160" cy="639720"/>
            <a:chOff x="996840" y="5146560"/>
            <a:chExt cx="8147160" cy="639720"/>
          </a:xfrm>
        </p:grpSpPr>
        <p:grpSp>
          <p:nvGrpSpPr>
            <p:cNvPr id="807" name="그룹 142"/>
            <p:cNvGrpSpPr/>
            <p:nvPr/>
          </p:nvGrpSpPr>
          <p:grpSpPr>
            <a:xfrm>
              <a:off x="996840" y="5146560"/>
              <a:ext cx="8147160" cy="505440"/>
              <a:chOff x="996840" y="5146560"/>
              <a:chExt cx="8147160" cy="505440"/>
            </a:xfrm>
          </p:grpSpPr>
          <p:grpSp>
            <p:nvGrpSpPr>
              <p:cNvPr id="808" name="그룹 97"/>
              <p:cNvGrpSpPr/>
              <p:nvPr/>
            </p:nvGrpSpPr>
            <p:grpSpPr>
              <a:xfrm>
                <a:off x="996840" y="5175720"/>
                <a:ext cx="305640" cy="337320"/>
                <a:chOff x="996840" y="5175720"/>
                <a:chExt cx="305640" cy="337320"/>
              </a:xfrm>
            </p:grpSpPr>
            <p:pic>
              <p:nvPicPr>
                <p:cNvPr id="809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00080" y="5228640"/>
                  <a:ext cx="286200" cy="213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0" name="TextBox 146"/>
                <p:cNvSpPr/>
                <p:nvPr/>
              </p:nvSpPr>
              <p:spPr>
                <a:xfrm>
                  <a:off x="996840" y="51757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1" name="직사각형 45"/>
              <p:cNvSpPr/>
              <p:nvPr/>
            </p:nvSpPr>
            <p:spPr>
              <a:xfrm>
                <a:off x="1071360" y="5146560"/>
                <a:ext cx="80726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negative transfer) 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이 후속학습을 방해하는 현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능적 고착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2" name="직사각형 42"/>
            <p:cNvSpPr/>
            <p:nvPr/>
          </p:nvSpPr>
          <p:spPr>
            <a:xfrm>
              <a:off x="1315800" y="5439600"/>
              <a:ext cx="7501320" cy="34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ts val="31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3" name="그룹 90"/>
          <p:cNvGrpSpPr/>
          <p:nvPr/>
        </p:nvGrpSpPr>
        <p:grpSpPr>
          <a:xfrm>
            <a:off x="1000080" y="5857920"/>
            <a:ext cx="7858080" cy="784080"/>
            <a:chOff x="1000080" y="5857920"/>
            <a:chExt cx="7858080" cy="784080"/>
          </a:xfrm>
        </p:grpSpPr>
        <p:grpSp>
          <p:nvGrpSpPr>
            <p:cNvPr id="814" name="그룹 142"/>
            <p:cNvGrpSpPr/>
            <p:nvPr/>
          </p:nvGrpSpPr>
          <p:grpSpPr>
            <a:xfrm>
              <a:off x="1000080" y="5857920"/>
              <a:ext cx="7786800" cy="505440"/>
              <a:chOff x="1000080" y="5857920"/>
              <a:chExt cx="7786800" cy="505440"/>
            </a:xfrm>
          </p:grpSpPr>
          <p:grpSp>
            <p:nvGrpSpPr>
              <p:cNvPr id="815" name="그룹 97"/>
              <p:cNvGrpSpPr/>
              <p:nvPr/>
            </p:nvGrpSpPr>
            <p:grpSpPr>
              <a:xfrm>
                <a:off x="1000080" y="5904360"/>
                <a:ext cx="286920" cy="337320"/>
                <a:chOff x="1000080" y="5904360"/>
                <a:chExt cx="286920" cy="337320"/>
              </a:xfrm>
            </p:grpSpPr>
            <p:pic>
              <p:nvPicPr>
                <p:cNvPr id="816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00080" y="5960880"/>
                  <a:ext cx="286920" cy="258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7" name="TextBox 146"/>
                <p:cNvSpPr/>
                <p:nvPr/>
              </p:nvSpPr>
              <p:spPr>
                <a:xfrm>
                  <a:off x="1002240" y="590436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8" name="직사각형 55"/>
              <p:cNvSpPr/>
              <p:nvPr/>
            </p:nvSpPr>
            <p:spPr>
              <a:xfrm>
                <a:off x="1071360" y="5857920"/>
                <a:ext cx="7715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영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zero transfer) 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이 후속학습에 아무런 영향을 미치지 않는 현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9" name="직사각형 52"/>
            <p:cNvSpPr/>
            <p:nvPr/>
          </p:nvSpPr>
          <p:spPr>
            <a:xfrm>
              <a:off x="1317600" y="6217200"/>
              <a:ext cx="7540560" cy="42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ts val="31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" name="그룹 35"/>
          <p:cNvGrpSpPr/>
          <p:nvPr/>
        </p:nvGrpSpPr>
        <p:grpSpPr>
          <a:xfrm>
            <a:off x="642960" y="1214280"/>
            <a:ext cx="8429760" cy="430200"/>
            <a:chOff x="642960" y="1214280"/>
            <a:chExt cx="8429760" cy="430200"/>
          </a:xfrm>
        </p:grpSpPr>
        <p:grpSp>
          <p:nvGrpSpPr>
            <p:cNvPr id="821" name="그룹 48"/>
            <p:cNvGrpSpPr/>
            <p:nvPr/>
          </p:nvGrpSpPr>
          <p:grpSpPr>
            <a:xfrm>
              <a:off x="642960" y="1242720"/>
              <a:ext cx="8429760" cy="401760"/>
              <a:chOff x="642960" y="1242720"/>
              <a:chExt cx="8429760" cy="401760"/>
            </a:xfrm>
          </p:grpSpPr>
          <p:sp>
            <p:nvSpPr>
              <p:cNvPr id="822" name="직사각형 13"/>
              <p:cNvSpPr/>
              <p:nvPr/>
            </p:nvSpPr>
            <p:spPr>
              <a:xfrm>
                <a:off x="1295640" y="124272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의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직선 연결선 18"/>
              <p:cNvSpPr/>
              <p:nvPr/>
            </p:nvSpPr>
            <p:spPr>
              <a:xfrm>
                <a:off x="642960" y="16430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4" name="그룹 49"/>
            <p:cNvGrpSpPr/>
            <p:nvPr/>
          </p:nvGrpSpPr>
          <p:grpSpPr>
            <a:xfrm>
              <a:off x="671400" y="1252080"/>
              <a:ext cx="328320" cy="319320"/>
              <a:chOff x="671400" y="1252080"/>
              <a:chExt cx="328320" cy="319320"/>
            </a:xfrm>
          </p:grpSpPr>
          <p:sp>
            <p:nvSpPr>
              <p:cNvPr id="825" name="AutoShape 4"/>
              <p:cNvSpPr/>
              <p:nvPr/>
            </p:nvSpPr>
            <p:spPr>
              <a:xfrm>
                <a:off x="671400" y="12520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6" name="Freeform 5"/>
              <p:cNvGrpSpPr/>
              <p:nvPr/>
            </p:nvGrpSpPr>
            <p:grpSpPr>
              <a:xfrm>
                <a:off x="688680" y="1267200"/>
                <a:ext cx="170640" cy="171000"/>
                <a:chOff x="688680" y="1267200"/>
                <a:chExt cx="170640" cy="171000"/>
              </a:xfrm>
            </p:grpSpPr>
            <p:pic>
              <p:nvPicPr>
                <p:cNvPr id="827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2672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28" name=""/>
                <p:cNvSpPr/>
                <p:nvPr/>
              </p:nvSpPr>
              <p:spPr>
                <a:xfrm>
                  <a:off x="691920" y="12722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29" name="TextBox 88"/>
            <p:cNvSpPr/>
            <p:nvPr/>
          </p:nvSpPr>
          <p:spPr>
            <a:xfrm>
              <a:off x="678600" y="1214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30" name="Picture 5" descr="233"/>
          <p:cNvPicPr/>
          <p:nvPr/>
        </p:nvPicPr>
        <p:blipFill>
          <a:blip r:embed="rId9"/>
          <a:srcRect l="2544" t="0" r="24313" b="0"/>
          <a:stretch/>
        </p:blipFill>
        <p:spPr>
          <a:xfrm>
            <a:off x="714240" y="1857240"/>
            <a:ext cx="8072640" cy="100044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831" name="직사각형 63"/>
          <p:cNvSpPr/>
          <p:nvPr/>
        </p:nvSpPr>
        <p:spPr>
          <a:xfrm>
            <a:off x="785880" y="178596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 장면에서 학습한 지식 및 기술이 새로운 장면의 학습이나 행동에 영향을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미치는 현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2" name="TextBox 12" descr=""/>
          <p:cNvPicPr/>
          <p:nvPr/>
        </p:nvPicPr>
        <p:blipFill>
          <a:blip r:embed="rId1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33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3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35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3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4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4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42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3" name="그룹 37"/>
          <p:cNvGrpSpPr/>
          <p:nvPr/>
        </p:nvGrpSpPr>
        <p:grpSpPr>
          <a:xfrm>
            <a:off x="285840" y="1928880"/>
            <a:ext cx="8501040" cy="4071960"/>
            <a:chOff x="285840" y="1928880"/>
            <a:chExt cx="8501040" cy="4071960"/>
          </a:xfrm>
        </p:grpSpPr>
        <p:grpSp>
          <p:nvGrpSpPr>
            <p:cNvPr id="844" name="그룹 91"/>
            <p:cNvGrpSpPr/>
            <p:nvPr/>
          </p:nvGrpSpPr>
          <p:grpSpPr>
            <a:xfrm>
              <a:off x="285840" y="2143080"/>
              <a:ext cx="8501040" cy="3857760"/>
              <a:chOff x="285840" y="2143080"/>
              <a:chExt cx="8501040" cy="3857760"/>
            </a:xfrm>
          </p:grpSpPr>
          <p:pic>
            <p:nvPicPr>
              <p:cNvPr id="845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143080"/>
                <a:ext cx="8501040" cy="38577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46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7" name="그룹 91"/>
            <p:cNvGrpSpPr/>
            <p:nvPr/>
          </p:nvGrpSpPr>
          <p:grpSpPr>
            <a:xfrm>
              <a:off x="928440" y="1928880"/>
              <a:ext cx="2360880" cy="551160"/>
              <a:chOff x="928440" y="1928880"/>
              <a:chExt cx="2360880" cy="551160"/>
            </a:xfrm>
          </p:grpSpPr>
          <p:grpSp>
            <p:nvGrpSpPr>
              <p:cNvPr id="848" name="그룹 34"/>
              <p:cNvGrpSpPr/>
              <p:nvPr/>
            </p:nvGrpSpPr>
            <p:grpSpPr>
              <a:xfrm>
                <a:off x="928440" y="2038320"/>
                <a:ext cx="349200" cy="361800"/>
                <a:chOff x="928440" y="2038320"/>
                <a:chExt cx="349200" cy="361800"/>
              </a:xfrm>
            </p:grpSpPr>
            <p:pic>
              <p:nvPicPr>
                <p:cNvPr id="849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28440" y="2047680"/>
                  <a:ext cx="349200" cy="352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0" name="TextBox 36"/>
                <p:cNvSpPr/>
                <p:nvPr/>
              </p:nvSpPr>
              <p:spPr>
                <a:xfrm>
                  <a:off x="957960" y="20383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1" name="직사각형 19"/>
              <p:cNvSpPr/>
              <p:nvPr/>
            </p:nvSpPr>
            <p:spPr>
              <a:xfrm>
                <a:off x="1671480" y="1928880"/>
                <a:ext cx="16178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일반전이와 특수전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2" name="그룹 90"/>
          <p:cNvGrpSpPr/>
          <p:nvPr/>
        </p:nvGrpSpPr>
        <p:grpSpPr>
          <a:xfrm>
            <a:off x="1152720" y="2676600"/>
            <a:ext cx="7823160" cy="1005120"/>
            <a:chOff x="1152720" y="2676600"/>
            <a:chExt cx="7823160" cy="1005120"/>
          </a:xfrm>
        </p:grpSpPr>
        <p:grpSp>
          <p:nvGrpSpPr>
            <p:cNvPr id="853" name="그룹 142"/>
            <p:cNvGrpSpPr/>
            <p:nvPr/>
          </p:nvGrpSpPr>
          <p:grpSpPr>
            <a:xfrm>
              <a:off x="1152720" y="2676600"/>
              <a:ext cx="2675520" cy="505440"/>
              <a:chOff x="1152720" y="2676600"/>
              <a:chExt cx="2675520" cy="505440"/>
            </a:xfrm>
          </p:grpSpPr>
          <p:grpSp>
            <p:nvGrpSpPr>
              <p:cNvPr id="854" name="그룹 97"/>
              <p:cNvGrpSpPr/>
              <p:nvPr/>
            </p:nvGrpSpPr>
            <p:grpSpPr>
              <a:xfrm>
                <a:off x="1152720" y="2741400"/>
                <a:ext cx="295200" cy="337320"/>
                <a:chOff x="1152720" y="2741400"/>
                <a:chExt cx="295200" cy="337320"/>
              </a:xfrm>
            </p:grpSpPr>
            <p:pic>
              <p:nvPicPr>
                <p:cNvPr id="855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158840" y="2791800"/>
                  <a:ext cx="28404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6" name="TextBox 146"/>
                <p:cNvSpPr/>
                <p:nvPr/>
              </p:nvSpPr>
              <p:spPr>
                <a:xfrm>
                  <a:off x="1152720" y="27414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7" name="직사각형 31"/>
              <p:cNvSpPr/>
              <p:nvPr/>
            </p:nvSpPr>
            <p:spPr>
              <a:xfrm>
                <a:off x="1378440" y="2676600"/>
                <a:ext cx="24498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반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general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8" name="직선 연결선 26"/>
            <p:cNvSpPr/>
            <p:nvPr/>
          </p:nvSpPr>
          <p:spPr>
            <a:xfrm>
              <a:off x="4643640" y="29620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9" name="그룹 114"/>
            <p:cNvGrpSpPr/>
            <p:nvPr/>
          </p:nvGrpSpPr>
          <p:grpSpPr>
            <a:xfrm>
              <a:off x="1376280" y="3176280"/>
              <a:ext cx="7599600" cy="505440"/>
              <a:chOff x="1376280" y="3176280"/>
              <a:chExt cx="7599600" cy="505440"/>
            </a:xfrm>
          </p:grpSpPr>
          <p:sp>
            <p:nvSpPr>
              <p:cNvPr id="860" name="직사각형 28"/>
              <p:cNvSpPr/>
              <p:nvPr/>
            </p:nvSpPr>
            <p:spPr>
              <a:xfrm>
                <a:off x="1538640" y="3176280"/>
                <a:ext cx="74372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에서 획득한 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법칙을 완전히 새로운 장면에 적용하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61" name="타원 29"/>
              <p:cNvGrpSpPr/>
              <p:nvPr/>
            </p:nvGrpSpPr>
            <p:grpSpPr>
              <a:xfrm>
                <a:off x="1376280" y="3346560"/>
                <a:ext cx="223560" cy="231480"/>
                <a:chOff x="1376280" y="3346560"/>
                <a:chExt cx="223560" cy="231480"/>
              </a:xfrm>
            </p:grpSpPr>
            <p:pic>
              <p:nvPicPr>
                <p:cNvPr id="862" name="타원 29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76280" y="334656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3" name=""/>
                <p:cNvSpPr/>
                <p:nvPr/>
              </p:nvSpPr>
              <p:spPr>
                <a:xfrm rot="10800000">
                  <a:off x="1455480" y="34045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64" name="그룹 90"/>
          <p:cNvGrpSpPr/>
          <p:nvPr/>
        </p:nvGrpSpPr>
        <p:grpSpPr>
          <a:xfrm>
            <a:off x="1155600" y="4154400"/>
            <a:ext cx="7820280" cy="1438200"/>
            <a:chOff x="1155600" y="4154400"/>
            <a:chExt cx="7820280" cy="1438200"/>
          </a:xfrm>
        </p:grpSpPr>
        <p:grpSp>
          <p:nvGrpSpPr>
            <p:cNvPr id="865" name="그룹 142"/>
            <p:cNvGrpSpPr/>
            <p:nvPr/>
          </p:nvGrpSpPr>
          <p:grpSpPr>
            <a:xfrm>
              <a:off x="1155600" y="4154400"/>
              <a:ext cx="2670120" cy="505440"/>
              <a:chOff x="1155600" y="4154400"/>
              <a:chExt cx="2670120" cy="505440"/>
            </a:xfrm>
          </p:grpSpPr>
          <p:grpSp>
            <p:nvGrpSpPr>
              <p:cNvPr id="866" name="그룹 97"/>
              <p:cNvGrpSpPr/>
              <p:nvPr/>
            </p:nvGrpSpPr>
            <p:grpSpPr>
              <a:xfrm>
                <a:off x="1155600" y="4219200"/>
                <a:ext cx="305640" cy="337320"/>
                <a:chOff x="1155600" y="4219200"/>
                <a:chExt cx="305640" cy="337320"/>
              </a:xfrm>
            </p:grpSpPr>
            <p:pic>
              <p:nvPicPr>
                <p:cNvPr id="867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266720"/>
                  <a:ext cx="28620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8" name="TextBox 146"/>
                <p:cNvSpPr/>
                <p:nvPr/>
              </p:nvSpPr>
              <p:spPr>
                <a:xfrm>
                  <a:off x="1155600" y="4219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9" name="직사각형 41"/>
              <p:cNvSpPr/>
              <p:nvPr/>
            </p:nvSpPr>
            <p:spPr>
              <a:xfrm>
                <a:off x="1398600" y="4154400"/>
                <a:ext cx="2427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수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pecific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0" name="직선 연결선 36"/>
            <p:cNvSpPr/>
            <p:nvPr/>
          </p:nvSpPr>
          <p:spPr>
            <a:xfrm>
              <a:off x="4643640" y="44398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1" name="그룹 114"/>
            <p:cNvGrpSpPr/>
            <p:nvPr/>
          </p:nvGrpSpPr>
          <p:grpSpPr>
            <a:xfrm>
              <a:off x="1376280" y="4675680"/>
              <a:ext cx="7599600" cy="916920"/>
              <a:chOff x="1376280" y="4675680"/>
              <a:chExt cx="7599600" cy="916920"/>
            </a:xfrm>
          </p:grpSpPr>
          <p:sp>
            <p:nvSpPr>
              <p:cNvPr id="872" name="직사각형 38"/>
              <p:cNvSpPr/>
              <p:nvPr/>
            </p:nvSpPr>
            <p:spPr>
              <a:xfrm>
                <a:off x="1538640" y="4675680"/>
                <a:ext cx="74372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장면에서 학습한 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법칙 등을 매우 유사한 장면에 적용하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영어 학습이 불어 학습에 영향을 미치는 것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73" name="타원 39"/>
              <p:cNvGrpSpPr/>
              <p:nvPr/>
            </p:nvGrpSpPr>
            <p:grpSpPr>
              <a:xfrm>
                <a:off x="1376280" y="4858200"/>
                <a:ext cx="223560" cy="231480"/>
                <a:chOff x="1376280" y="4858200"/>
                <a:chExt cx="223560" cy="231480"/>
              </a:xfrm>
            </p:grpSpPr>
            <p:pic>
              <p:nvPicPr>
                <p:cNvPr id="874" name="타원 39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8582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75" name=""/>
                <p:cNvSpPr/>
                <p:nvPr/>
              </p:nvSpPr>
              <p:spPr>
                <a:xfrm rot="10800000">
                  <a:off x="1455480" y="49165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6" name="그룹 37"/>
          <p:cNvGrpSpPr/>
          <p:nvPr/>
        </p:nvGrpSpPr>
        <p:grpSpPr>
          <a:xfrm>
            <a:off x="285840" y="1928880"/>
            <a:ext cx="8501040" cy="4286160"/>
            <a:chOff x="285840" y="1928880"/>
            <a:chExt cx="8501040" cy="4286160"/>
          </a:xfrm>
        </p:grpSpPr>
        <p:grpSp>
          <p:nvGrpSpPr>
            <p:cNvPr id="877" name="그룹 91"/>
            <p:cNvGrpSpPr/>
            <p:nvPr/>
          </p:nvGrpSpPr>
          <p:grpSpPr>
            <a:xfrm>
              <a:off x="285840" y="2143080"/>
              <a:ext cx="8501040" cy="4071960"/>
              <a:chOff x="285840" y="2143080"/>
              <a:chExt cx="8501040" cy="4071960"/>
            </a:xfrm>
          </p:grpSpPr>
          <p:pic>
            <p:nvPicPr>
              <p:cNvPr id="878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4071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79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0" name="그룹 91"/>
            <p:cNvGrpSpPr/>
            <p:nvPr/>
          </p:nvGrpSpPr>
          <p:grpSpPr>
            <a:xfrm>
              <a:off x="928440" y="1928880"/>
              <a:ext cx="2937960" cy="551160"/>
              <a:chOff x="928440" y="1928880"/>
              <a:chExt cx="2937960" cy="551160"/>
            </a:xfrm>
          </p:grpSpPr>
          <p:grpSp>
            <p:nvGrpSpPr>
              <p:cNvPr id="881" name="그룹 34"/>
              <p:cNvGrpSpPr/>
              <p:nvPr/>
            </p:nvGrpSpPr>
            <p:grpSpPr>
              <a:xfrm>
                <a:off x="928440" y="2038320"/>
                <a:ext cx="349200" cy="361800"/>
                <a:chOff x="928440" y="2038320"/>
                <a:chExt cx="349200" cy="361800"/>
              </a:xfrm>
            </p:grpSpPr>
            <p:pic>
              <p:nvPicPr>
                <p:cNvPr id="882" name="Picture 177" descr="bull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928440" y="2047680"/>
                  <a:ext cx="349200" cy="352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3" name="TextBox 36"/>
                <p:cNvSpPr/>
                <p:nvPr/>
              </p:nvSpPr>
              <p:spPr>
                <a:xfrm>
                  <a:off x="957960" y="20383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4" name="직사각형 19"/>
              <p:cNvSpPr/>
              <p:nvPr/>
            </p:nvSpPr>
            <p:spPr>
              <a:xfrm>
                <a:off x="1812600" y="1928880"/>
                <a:ext cx="20538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수평적 전이와 수직적 전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85" name="그룹 90"/>
          <p:cNvGrpSpPr/>
          <p:nvPr/>
        </p:nvGrpSpPr>
        <p:grpSpPr>
          <a:xfrm>
            <a:off x="1152720" y="2714760"/>
            <a:ext cx="7823160" cy="1309320"/>
            <a:chOff x="1152720" y="2714760"/>
            <a:chExt cx="7823160" cy="1309320"/>
          </a:xfrm>
        </p:grpSpPr>
        <p:grpSp>
          <p:nvGrpSpPr>
            <p:cNvPr id="886" name="그룹 142"/>
            <p:cNvGrpSpPr/>
            <p:nvPr/>
          </p:nvGrpSpPr>
          <p:grpSpPr>
            <a:xfrm>
              <a:off x="1152720" y="2714760"/>
              <a:ext cx="3167640" cy="505440"/>
              <a:chOff x="1152720" y="2714760"/>
              <a:chExt cx="3167640" cy="505440"/>
            </a:xfrm>
          </p:grpSpPr>
          <p:grpSp>
            <p:nvGrpSpPr>
              <p:cNvPr id="887" name="그룹 97"/>
              <p:cNvGrpSpPr/>
              <p:nvPr/>
            </p:nvGrpSpPr>
            <p:grpSpPr>
              <a:xfrm>
                <a:off x="1152720" y="2779560"/>
                <a:ext cx="295200" cy="337320"/>
                <a:chOff x="1152720" y="2779560"/>
                <a:chExt cx="295200" cy="337320"/>
              </a:xfrm>
            </p:grpSpPr>
            <p:pic>
              <p:nvPicPr>
                <p:cNvPr id="888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160"/>
                  <a:ext cx="28404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9" name="TextBox 146"/>
                <p:cNvSpPr/>
                <p:nvPr/>
              </p:nvSpPr>
              <p:spPr>
                <a:xfrm>
                  <a:off x="115272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90" name="직사각형 32"/>
              <p:cNvSpPr/>
              <p:nvPr/>
            </p:nvSpPr>
            <p:spPr>
              <a:xfrm>
                <a:off x="1437840" y="2714760"/>
                <a:ext cx="2882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평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horizontal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1" name="직선 연결선 26"/>
            <p:cNvSpPr/>
            <p:nvPr/>
          </p:nvSpPr>
          <p:spPr>
            <a:xfrm>
              <a:off x="4643640" y="300024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2" name="그룹 114"/>
            <p:cNvGrpSpPr/>
            <p:nvPr/>
          </p:nvGrpSpPr>
          <p:grpSpPr>
            <a:xfrm>
              <a:off x="1376280" y="3107160"/>
              <a:ext cx="7599600" cy="916920"/>
              <a:chOff x="1376280" y="3107160"/>
              <a:chExt cx="7599600" cy="916920"/>
            </a:xfrm>
          </p:grpSpPr>
          <p:sp>
            <p:nvSpPr>
              <p:cNvPr id="893" name="직사각형 28"/>
              <p:cNvSpPr/>
              <p:nvPr/>
            </p:nvSpPr>
            <p:spPr>
              <a:xfrm>
                <a:off x="1538640" y="3107160"/>
                <a:ext cx="74372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과 후속학습의 수준이 비슷한 경우에 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역사시간에 학습한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3.1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운동이 국어시간의 독립선언문 학습에 영향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94" name="타원 29"/>
              <p:cNvGrpSpPr/>
              <p:nvPr/>
            </p:nvGrpSpPr>
            <p:grpSpPr>
              <a:xfrm>
                <a:off x="1376280" y="3279600"/>
                <a:ext cx="223560" cy="231480"/>
                <a:chOff x="1376280" y="3279600"/>
                <a:chExt cx="223560" cy="231480"/>
              </a:xfrm>
            </p:grpSpPr>
            <p:pic>
              <p:nvPicPr>
                <p:cNvPr id="895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6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96" name=""/>
                <p:cNvSpPr/>
                <p:nvPr/>
              </p:nvSpPr>
              <p:spPr>
                <a:xfrm rot="10800000">
                  <a:off x="1455480" y="33357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897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9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9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00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05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0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8" name="그룹 90"/>
          <p:cNvGrpSpPr/>
          <p:nvPr/>
        </p:nvGrpSpPr>
        <p:grpSpPr>
          <a:xfrm>
            <a:off x="1155600" y="4214880"/>
            <a:ext cx="7820280" cy="2131920"/>
            <a:chOff x="1155600" y="4214880"/>
            <a:chExt cx="7820280" cy="2131920"/>
          </a:xfrm>
        </p:grpSpPr>
        <p:grpSp>
          <p:nvGrpSpPr>
            <p:cNvPr id="909" name="그룹 142"/>
            <p:cNvGrpSpPr/>
            <p:nvPr/>
          </p:nvGrpSpPr>
          <p:grpSpPr>
            <a:xfrm>
              <a:off x="1155600" y="4214880"/>
              <a:ext cx="2903400" cy="505440"/>
              <a:chOff x="1155600" y="4214880"/>
              <a:chExt cx="2903400" cy="505440"/>
            </a:xfrm>
          </p:grpSpPr>
          <p:grpSp>
            <p:nvGrpSpPr>
              <p:cNvPr id="910" name="그룹 97"/>
              <p:cNvGrpSpPr/>
              <p:nvPr/>
            </p:nvGrpSpPr>
            <p:grpSpPr>
              <a:xfrm>
                <a:off x="1155600" y="4279680"/>
                <a:ext cx="305640" cy="337320"/>
                <a:chOff x="1155600" y="4279680"/>
                <a:chExt cx="305640" cy="337320"/>
              </a:xfrm>
            </p:grpSpPr>
            <p:pic>
              <p:nvPicPr>
                <p:cNvPr id="911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327920"/>
                  <a:ext cx="28620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2" name="TextBox 146"/>
                <p:cNvSpPr/>
                <p:nvPr/>
              </p:nvSpPr>
              <p:spPr>
                <a:xfrm>
                  <a:off x="1155600" y="42796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13" name="직사각형 42"/>
              <p:cNvSpPr/>
              <p:nvPr/>
            </p:nvSpPr>
            <p:spPr>
              <a:xfrm>
                <a:off x="1450800" y="4214880"/>
                <a:ext cx="2608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직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vertical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4" name="직선 연결선 37"/>
            <p:cNvSpPr/>
            <p:nvPr/>
          </p:nvSpPr>
          <p:spPr>
            <a:xfrm>
              <a:off x="4643640" y="450036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5" name="그룹 114"/>
            <p:cNvGrpSpPr/>
            <p:nvPr/>
          </p:nvGrpSpPr>
          <p:grpSpPr>
            <a:xfrm>
              <a:off x="1376280" y="4606920"/>
              <a:ext cx="7599600" cy="1739880"/>
              <a:chOff x="1376280" y="4606920"/>
              <a:chExt cx="7599600" cy="1739880"/>
            </a:xfrm>
          </p:grpSpPr>
          <p:sp>
            <p:nvSpPr>
              <p:cNvPr id="916" name="직사각형 39"/>
              <p:cNvSpPr/>
              <p:nvPr/>
            </p:nvSpPr>
            <p:spPr>
              <a:xfrm>
                <a:off x="1538640" y="4606920"/>
                <a:ext cx="743724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계관계가 분명한 학습과제 사이에서 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계 관계가 분명한 학습과제에서 생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구단 학습이 곱셈과 나눗셈에 영향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7" name="타원 40"/>
              <p:cNvGrpSpPr/>
              <p:nvPr/>
            </p:nvGrpSpPr>
            <p:grpSpPr>
              <a:xfrm>
                <a:off x="1376280" y="4778640"/>
                <a:ext cx="223560" cy="231480"/>
                <a:chOff x="1376280" y="4778640"/>
                <a:chExt cx="223560" cy="231480"/>
              </a:xfrm>
            </p:grpSpPr>
            <p:pic>
              <p:nvPicPr>
                <p:cNvPr id="918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7786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9" name=""/>
                <p:cNvSpPr/>
                <p:nvPr/>
              </p:nvSpPr>
              <p:spPr>
                <a:xfrm rot="10800000">
                  <a:off x="1455480" y="48351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0" name="그룹 37"/>
          <p:cNvGrpSpPr/>
          <p:nvPr/>
        </p:nvGrpSpPr>
        <p:grpSpPr>
          <a:xfrm>
            <a:off x="285840" y="1928880"/>
            <a:ext cx="8501040" cy="3929040"/>
            <a:chOff x="285840" y="1928880"/>
            <a:chExt cx="8501040" cy="3929040"/>
          </a:xfrm>
        </p:grpSpPr>
        <p:grpSp>
          <p:nvGrpSpPr>
            <p:cNvPr id="921" name="그룹 91"/>
            <p:cNvGrpSpPr/>
            <p:nvPr/>
          </p:nvGrpSpPr>
          <p:grpSpPr>
            <a:xfrm>
              <a:off x="285840" y="2143080"/>
              <a:ext cx="8501040" cy="3714840"/>
              <a:chOff x="285840" y="2143080"/>
              <a:chExt cx="8501040" cy="3714840"/>
            </a:xfrm>
          </p:grpSpPr>
          <p:pic>
            <p:nvPicPr>
              <p:cNvPr id="922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37148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23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4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925" name="그룹 91"/>
              <p:cNvGrpSpPr/>
              <p:nvPr/>
            </p:nvGrpSpPr>
            <p:grpSpPr>
              <a:xfrm>
                <a:off x="928440" y="1928880"/>
                <a:ext cx="2360880" cy="551160"/>
                <a:chOff x="928440" y="1928880"/>
                <a:chExt cx="2360880" cy="551160"/>
              </a:xfrm>
            </p:grpSpPr>
            <p:grpSp>
              <p:nvGrpSpPr>
                <p:cNvPr id="926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927" name="Picture 177" descr="bul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28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4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29" name="직사각형 19"/>
                <p:cNvSpPr/>
                <p:nvPr/>
              </p:nvSpPr>
              <p:spPr>
                <a:xfrm>
                  <a:off x="1671480" y="1928880"/>
                  <a:ext cx="16178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근접전이와 원격전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0" name="직선 연결선 17"/>
              <p:cNvSpPr/>
              <p:nvPr/>
            </p:nvSpPr>
            <p:spPr>
              <a:xfrm>
                <a:off x="4786200" y="2214720"/>
                <a:ext cx="3716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31" name="그룹 90"/>
          <p:cNvGrpSpPr/>
          <p:nvPr/>
        </p:nvGrpSpPr>
        <p:grpSpPr>
          <a:xfrm>
            <a:off x="1152360" y="2714760"/>
            <a:ext cx="7823520" cy="898200"/>
            <a:chOff x="1152360" y="2714760"/>
            <a:chExt cx="7823520" cy="898200"/>
          </a:xfrm>
        </p:grpSpPr>
        <p:grpSp>
          <p:nvGrpSpPr>
            <p:cNvPr id="932" name="그룹 142"/>
            <p:cNvGrpSpPr/>
            <p:nvPr/>
          </p:nvGrpSpPr>
          <p:grpSpPr>
            <a:xfrm>
              <a:off x="1152360" y="2714760"/>
              <a:ext cx="2397240" cy="505440"/>
              <a:chOff x="1152360" y="2714760"/>
              <a:chExt cx="2397240" cy="505440"/>
            </a:xfrm>
          </p:grpSpPr>
          <p:grpSp>
            <p:nvGrpSpPr>
              <p:cNvPr id="933" name="그룹 97"/>
              <p:cNvGrpSpPr/>
              <p:nvPr/>
            </p:nvGrpSpPr>
            <p:grpSpPr>
              <a:xfrm>
                <a:off x="1152360" y="2779560"/>
                <a:ext cx="295200" cy="337320"/>
                <a:chOff x="1152360" y="2779560"/>
                <a:chExt cx="295200" cy="337320"/>
              </a:xfrm>
            </p:grpSpPr>
            <p:pic>
              <p:nvPicPr>
                <p:cNvPr id="934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160"/>
                  <a:ext cx="28368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5" name="TextBox 146"/>
                <p:cNvSpPr/>
                <p:nvPr/>
              </p:nvSpPr>
              <p:spPr>
                <a:xfrm>
                  <a:off x="115236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6" name="직사각형 32"/>
              <p:cNvSpPr/>
              <p:nvPr/>
            </p:nvSpPr>
            <p:spPr>
              <a:xfrm>
                <a:off x="1391040" y="2714760"/>
                <a:ext cx="21585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근접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near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7" name="직선 연결선 26"/>
            <p:cNvSpPr/>
            <p:nvPr/>
          </p:nvSpPr>
          <p:spPr>
            <a:xfrm>
              <a:off x="4643640" y="30006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8" name="그룹 114"/>
            <p:cNvGrpSpPr/>
            <p:nvPr/>
          </p:nvGrpSpPr>
          <p:grpSpPr>
            <a:xfrm>
              <a:off x="1376280" y="3107520"/>
              <a:ext cx="7599600" cy="505440"/>
              <a:chOff x="1376280" y="3107520"/>
              <a:chExt cx="7599600" cy="505440"/>
            </a:xfrm>
          </p:grpSpPr>
          <p:sp>
            <p:nvSpPr>
              <p:cNvPr id="939" name="직사각형 28"/>
              <p:cNvSpPr/>
              <p:nvPr/>
            </p:nvSpPr>
            <p:spPr>
              <a:xfrm>
                <a:off x="1538640" y="3107520"/>
                <a:ext cx="74372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피상적인 특성은 물론 기저원리가 비슷한 장면 사이에 일어나는 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40" name="타원 29"/>
              <p:cNvGrpSpPr/>
              <p:nvPr/>
            </p:nvGrpSpPr>
            <p:grpSpPr>
              <a:xfrm>
                <a:off x="1376280" y="3279960"/>
                <a:ext cx="223560" cy="231840"/>
                <a:chOff x="1376280" y="3279960"/>
                <a:chExt cx="223560" cy="231840"/>
              </a:xfrm>
            </p:grpSpPr>
            <p:pic>
              <p:nvPicPr>
                <p:cNvPr id="941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960"/>
                  <a:ext cx="22356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2" name=""/>
                <p:cNvSpPr/>
                <p:nvPr/>
              </p:nvSpPr>
              <p:spPr>
                <a:xfrm rot="10800000">
                  <a:off x="1455480" y="33361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943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944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4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46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51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53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4" name="그룹 90"/>
          <p:cNvGrpSpPr/>
          <p:nvPr/>
        </p:nvGrpSpPr>
        <p:grpSpPr>
          <a:xfrm>
            <a:off x="1155240" y="4214880"/>
            <a:ext cx="7820640" cy="897840"/>
            <a:chOff x="1155240" y="4214880"/>
            <a:chExt cx="7820640" cy="897840"/>
          </a:xfrm>
        </p:grpSpPr>
        <p:grpSp>
          <p:nvGrpSpPr>
            <p:cNvPr id="955" name="그룹 142"/>
            <p:cNvGrpSpPr/>
            <p:nvPr/>
          </p:nvGrpSpPr>
          <p:grpSpPr>
            <a:xfrm>
              <a:off x="1155240" y="4214880"/>
              <a:ext cx="2234520" cy="505440"/>
              <a:chOff x="1155240" y="4214880"/>
              <a:chExt cx="2234520" cy="505440"/>
            </a:xfrm>
          </p:grpSpPr>
          <p:grpSp>
            <p:nvGrpSpPr>
              <p:cNvPr id="956" name="그룹 97"/>
              <p:cNvGrpSpPr/>
              <p:nvPr/>
            </p:nvGrpSpPr>
            <p:grpSpPr>
              <a:xfrm>
                <a:off x="1155240" y="4279680"/>
                <a:ext cx="305640" cy="337320"/>
                <a:chOff x="1155240" y="4279680"/>
                <a:chExt cx="305640" cy="337320"/>
              </a:xfrm>
            </p:grpSpPr>
            <p:pic>
              <p:nvPicPr>
                <p:cNvPr id="957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327920"/>
                  <a:ext cx="28584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8" name="TextBox 146"/>
                <p:cNvSpPr/>
                <p:nvPr/>
              </p:nvSpPr>
              <p:spPr>
                <a:xfrm>
                  <a:off x="1155240" y="42796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59" name="직사각형 42"/>
              <p:cNvSpPr/>
              <p:nvPr/>
            </p:nvSpPr>
            <p:spPr>
              <a:xfrm>
                <a:off x="1400040" y="4214880"/>
                <a:ext cx="19897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원격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far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0" name="직선 연결선 37"/>
            <p:cNvSpPr/>
            <p:nvPr/>
          </p:nvSpPr>
          <p:spPr>
            <a:xfrm>
              <a:off x="4643640" y="4500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1" name="그룹 114"/>
            <p:cNvGrpSpPr/>
            <p:nvPr/>
          </p:nvGrpSpPr>
          <p:grpSpPr>
            <a:xfrm>
              <a:off x="1376280" y="4607280"/>
              <a:ext cx="7599600" cy="505440"/>
              <a:chOff x="1376280" y="4607280"/>
              <a:chExt cx="7599600" cy="505440"/>
            </a:xfrm>
          </p:grpSpPr>
          <p:sp>
            <p:nvSpPr>
              <p:cNvPr id="962" name="직사각형 39"/>
              <p:cNvSpPr/>
              <p:nvPr/>
            </p:nvSpPr>
            <p:spPr>
              <a:xfrm>
                <a:off x="1538640" y="4607280"/>
                <a:ext cx="74372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저원리는 동일하지만 피상적 특성이 다른 장면 사이에 일어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3" name="타원 40"/>
              <p:cNvGrpSpPr/>
              <p:nvPr/>
            </p:nvGrpSpPr>
            <p:grpSpPr>
              <a:xfrm>
                <a:off x="1376280" y="4779360"/>
                <a:ext cx="223560" cy="231840"/>
                <a:chOff x="1376280" y="4779360"/>
                <a:chExt cx="223560" cy="231840"/>
              </a:xfrm>
            </p:grpSpPr>
            <p:pic>
              <p:nvPicPr>
                <p:cNvPr id="964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779360"/>
                  <a:ext cx="22356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5" name=""/>
                <p:cNvSpPr/>
                <p:nvPr/>
              </p:nvSpPr>
              <p:spPr>
                <a:xfrm rot="10800000">
                  <a:off x="1455480" y="48362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6" name="그룹 37"/>
          <p:cNvGrpSpPr/>
          <p:nvPr/>
        </p:nvGrpSpPr>
        <p:grpSpPr>
          <a:xfrm>
            <a:off x="285840" y="1928880"/>
            <a:ext cx="8501040" cy="3929040"/>
            <a:chOff x="285840" y="1928880"/>
            <a:chExt cx="8501040" cy="3929040"/>
          </a:xfrm>
        </p:grpSpPr>
        <p:grpSp>
          <p:nvGrpSpPr>
            <p:cNvPr id="967" name="그룹 91"/>
            <p:cNvGrpSpPr/>
            <p:nvPr/>
          </p:nvGrpSpPr>
          <p:grpSpPr>
            <a:xfrm>
              <a:off x="285840" y="2143080"/>
              <a:ext cx="8501040" cy="3714840"/>
              <a:chOff x="285840" y="2143080"/>
              <a:chExt cx="8501040" cy="3714840"/>
            </a:xfrm>
          </p:grpSpPr>
          <p:pic>
            <p:nvPicPr>
              <p:cNvPr id="968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37148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69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0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971" name="그룹 91"/>
              <p:cNvGrpSpPr/>
              <p:nvPr/>
            </p:nvGrpSpPr>
            <p:grpSpPr>
              <a:xfrm>
                <a:off x="928440" y="1928880"/>
                <a:ext cx="3142080" cy="551160"/>
                <a:chOff x="928440" y="1928880"/>
                <a:chExt cx="3142080" cy="551160"/>
              </a:xfrm>
            </p:grpSpPr>
            <p:grpSp>
              <p:nvGrpSpPr>
                <p:cNvPr id="972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973" name="Picture 177" descr="bul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74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5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75" name="직사각형 19"/>
                <p:cNvSpPr/>
                <p:nvPr/>
              </p:nvSpPr>
              <p:spPr>
                <a:xfrm>
                  <a:off x="1864440" y="1928880"/>
                  <a:ext cx="220608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식적 전이와 무의식적 전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76" name="직선 연결선 17"/>
              <p:cNvSpPr/>
              <p:nvPr/>
            </p:nvSpPr>
            <p:spPr>
              <a:xfrm>
                <a:off x="4786200" y="2214720"/>
                <a:ext cx="3716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7" name="그룹 90"/>
          <p:cNvGrpSpPr/>
          <p:nvPr/>
        </p:nvGrpSpPr>
        <p:grpSpPr>
          <a:xfrm>
            <a:off x="1152720" y="2714760"/>
            <a:ext cx="7823160" cy="1171440"/>
            <a:chOff x="1152720" y="2714760"/>
            <a:chExt cx="7823160" cy="1171440"/>
          </a:xfrm>
        </p:grpSpPr>
        <p:grpSp>
          <p:nvGrpSpPr>
            <p:cNvPr id="978" name="그룹 142"/>
            <p:cNvGrpSpPr/>
            <p:nvPr/>
          </p:nvGrpSpPr>
          <p:grpSpPr>
            <a:xfrm>
              <a:off x="1152720" y="2714760"/>
              <a:ext cx="3146040" cy="505440"/>
              <a:chOff x="1152720" y="2714760"/>
              <a:chExt cx="3146040" cy="505440"/>
            </a:xfrm>
          </p:grpSpPr>
          <p:grpSp>
            <p:nvGrpSpPr>
              <p:cNvPr id="979" name="그룹 97"/>
              <p:cNvGrpSpPr/>
              <p:nvPr/>
            </p:nvGrpSpPr>
            <p:grpSpPr>
              <a:xfrm>
                <a:off x="1152720" y="2779560"/>
                <a:ext cx="295200" cy="337320"/>
                <a:chOff x="1152720" y="2779560"/>
                <a:chExt cx="295200" cy="337320"/>
              </a:xfrm>
            </p:grpSpPr>
            <p:pic>
              <p:nvPicPr>
                <p:cNvPr id="980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520"/>
                  <a:ext cx="28404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1" name="TextBox 146"/>
                <p:cNvSpPr/>
                <p:nvPr/>
              </p:nvSpPr>
              <p:spPr>
                <a:xfrm>
                  <a:off x="115272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2" name="직사각형 32"/>
              <p:cNvSpPr/>
              <p:nvPr/>
            </p:nvSpPr>
            <p:spPr>
              <a:xfrm>
                <a:off x="1443600" y="2714760"/>
                <a:ext cx="28551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식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high-road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3" name="직선 연결선 26"/>
            <p:cNvSpPr/>
            <p:nvPr/>
          </p:nvSpPr>
          <p:spPr>
            <a:xfrm>
              <a:off x="4643640" y="300024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4" name="그룹 114"/>
            <p:cNvGrpSpPr/>
            <p:nvPr/>
          </p:nvGrpSpPr>
          <p:grpSpPr>
            <a:xfrm>
              <a:off x="1376280" y="3106440"/>
              <a:ext cx="7599600" cy="779760"/>
              <a:chOff x="1376280" y="3106440"/>
              <a:chExt cx="7599600" cy="779760"/>
            </a:xfrm>
          </p:grpSpPr>
          <p:sp>
            <p:nvSpPr>
              <p:cNvPr id="985" name="직사각형 28"/>
              <p:cNvSpPr/>
              <p:nvPr/>
            </p:nvSpPr>
            <p:spPr>
              <a:xfrm>
                <a:off x="1538640" y="3106440"/>
                <a:ext cx="74372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에서 학습한 것을 새로운 학습에 의식적이고 의도적으로 적용할 때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86" name="타원 29"/>
              <p:cNvGrpSpPr/>
              <p:nvPr/>
            </p:nvGrpSpPr>
            <p:grpSpPr>
              <a:xfrm>
                <a:off x="1376280" y="3279240"/>
                <a:ext cx="223560" cy="231480"/>
                <a:chOff x="1376280" y="3279240"/>
                <a:chExt cx="223560" cy="231480"/>
              </a:xfrm>
            </p:grpSpPr>
            <p:pic>
              <p:nvPicPr>
                <p:cNvPr id="987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2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8" name=""/>
                <p:cNvSpPr/>
                <p:nvPr/>
              </p:nvSpPr>
              <p:spPr>
                <a:xfrm rot="10800000">
                  <a:off x="1455480" y="33346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989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990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9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92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9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9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97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9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99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0" name="그룹 90"/>
          <p:cNvGrpSpPr/>
          <p:nvPr/>
        </p:nvGrpSpPr>
        <p:grpSpPr>
          <a:xfrm>
            <a:off x="1155600" y="4214880"/>
            <a:ext cx="7820280" cy="1172160"/>
            <a:chOff x="1155600" y="4214880"/>
            <a:chExt cx="7820280" cy="1172160"/>
          </a:xfrm>
        </p:grpSpPr>
        <p:grpSp>
          <p:nvGrpSpPr>
            <p:cNvPr id="1001" name="그룹 142"/>
            <p:cNvGrpSpPr/>
            <p:nvPr/>
          </p:nvGrpSpPr>
          <p:grpSpPr>
            <a:xfrm>
              <a:off x="1155600" y="4214880"/>
              <a:ext cx="3218040" cy="505440"/>
              <a:chOff x="1155600" y="4214880"/>
              <a:chExt cx="3218040" cy="505440"/>
            </a:xfrm>
          </p:grpSpPr>
          <p:grpSp>
            <p:nvGrpSpPr>
              <p:cNvPr id="1002" name="그룹 97"/>
              <p:cNvGrpSpPr/>
              <p:nvPr/>
            </p:nvGrpSpPr>
            <p:grpSpPr>
              <a:xfrm>
                <a:off x="1155600" y="4279680"/>
                <a:ext cx="305640" cy="337320"/>
                <a:chOff x="1155600" y="4279680"/>
                <a:chExt cx="305640" cy="337320"/>
              </a:xfrm>
            </p:grpSpPr>
            <p:pic>
              <p:nvPicPr>
                <p:cNvPr id="1003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327920"/>
                  <a:ext cx="28620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04" name="TextBox 146"/>
                <p:cNvSpPr/>
                <p:nvPr/>
              </p:nvSpPr>
              <p:spPr>
                <a:xfrm>
                  <a:off x="1155600" y="42796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05" name="직사각형 42"/>
              <p:cNvSpPr/>
              <p:nvPr/>
            </p:nvSpPr>
            <p:spPr>
              <a:xfrm>
                <a:off x="1474200" y="4214880"/>
                <a:ext cx="28994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무의식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low-road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6" name="직선 연결선 37"/>
            <p:cNvSpPr/>
            <p:nvPr/>
          </p:nvSpPr>
          <p:spPr>
            <a:xfrm>
              <a:off x="4643640" y="450036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7" name="그룹 114"/>
            <p:cNvGrpSpPr/>
            <p:nvPr/>
          </p:nvGrpSpPr>
          <p:grpSpPr>
            <a:xfrm>
              <a:off x="1376280" y="4607280"/>
              <a:ext cx="7599600" cy="779760"/>
              <a:chOff x="1376280" y="4607280"/>
              <a:chExt cx="7599600" cy="779760"/>
            </a:xfrm>
          </p:grpSpPr>
          <p:sp>
            <p:nvSpPr>
              <p:cNvPr id="1008" name="직사각형 39"/>
              <p:cNvSpPr/>
              <p:nvPr/>
            </p:nvSpPr>
            <p:spPr>
              <a:xfrm>
                <a:off x="1538640" y="4607280"/>
                <a:ext cx="74372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지식을 매우 유사한 학습과제의 문제해결에 자동적으로 적용할 경우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9" name="타원 40"/>
              <p:cNvGrpSpPr/>
              <p:nvPr/>
            </p:nvGrpSpPr>
            <p:grpSpPr>
              <a:xfrm>
                <a:off x="1376280" y="4779000"/>
                <a:ext cx="223560" cy="231480"/>
                <a:chOff x="1376280" y="4779000"/>
                <a:chExt cx="223560" cy="231480"/>
              </a:xfrm>
            </p:grpSpPr>
            <p:pic>
              <p:nvPicPr>
                <p:cNvPr id="1010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7790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1" name=""/>
                <p:cNvSpPr/>
                <p:nvPr/>
              </p:nvSpPr>
              <p:spPr>
                <a:xfrm rot="10800000">
                  <a:off x="1455480" y="48358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2" name="그룹 37"/>
          <p:cNvGrpSpPr/>
          <p:nvPr/>
        </p:nvGrpSpPr>
        <p:grpSpPr>
          <a:xfrm>
            <a:off x="285840" y="1928880"/>
            <a:ext cx="8501040" cy="4500360"/>
            <a:chOff x="285840" y="1928880"/>
            <a:chExt cx="8501040" cy="4500360"/>
          </a:xfrm>
        </p:grpSpPr>
        <p:grpSp>
          <p:nvGrpSpPr>
            <p:cNvPr id="1013" name="그룹 91"/>
            <p:cNvGrpSpPr/>
            <p:nvPr/>
          </p:nvGrpSpPr>
          <p:grpSpPr>
            <a:xfrm>
              <a:off x="285840" y="2143080"/>
              <a:ext cx="8501040" cy="4286160"/>
              <a:chOff x="285840" y="2143080"/>
              <a:chExt cx="8501040" cy="4286160"/>
            </a:xfrm>
          </p:grpSpPr>
          <p:pic>
            <p:nvPicPr>
              <p:cNvPr id="1014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4286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015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6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1017" name="그룹 91"/>
              <p:cNvGrpSpPr/>
              <p:nvPr/>
            </p:nvGrpSpPr>
            <p:grpSpPr>
              <a:xfrm>
                <a:off x="928440" y="1928880"/>
                <a:ext cx="2937960" cy="551160"/>
                <a:chOff x="928440" y="1928880"/>
                <a:chExt cx="2937960" cy="551160"/>
              </a:xfrm>
            </p:grpSpPr>
            <p:grpSp>
              <p:nvGrpSpPr>
                <p:cNvPr id="1018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1019" name="Picture 177" descr="bul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20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6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21" name="직사각형 19"/>
                <p:cNvSpPr/>
                <p:nvPr/>
              </p:nvSpPr>
              <p:spPr>
                <a:xfrm>
                  <a:off x="1812600" y="1928880"/>
                  <a:ext cx="20538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전향적 전이와 역행적 전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2" name="직선 연결선 17"/>
              <p:cNvSpPr/>
              <p:nvPr/>
            </p:nvSpPr>
            <p:spPr>
              <a:xfrm>
                <a:off x="4786200" y="2214720"/>
                <a:ext cx="3716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3" name="그룹 90"/>
          <p:cNvGrpSpPr/>
          <p:nvPr/>
        </p:nvGrpSpPr>
        <p:grpSpPr>
          <a:xfrm>
            <a:off x="1152720" y="2714760"/>
            <a:ext cx="7823160" cy="2132280"/>
            <a:chOff x="1152720" y="2714760"/>
            <a:chExt cx="7823160" cy="2132280"/>
          </a:xfrm>
        </p:grpSpPr>
        <p:grpSp>
          <p:nvGrpSpPr>
            <p:cNvPr id="1024" name="그룹 142"/>
            <p:cNvGrpSpPr/>
            <p:nvPr/>
          </p:nvGrpSpPr>
          <p:grpSpPr>
            <a:xfrm>
              <a:off x="1152720" y="2714760"/>
              <a:ext cx="3091320" cy="505440"/>
              <a:chOff x="1152720" y="2714760"/>
              <a:chExt cx="3091320" cy="505440"/>
            </a:xfrm>
          </p:grpSpPr>
          <p:grpSp>
            <p:nvGrpSpPr>
              <p:cNvPr id="1025" name="그룹 97"/>
              <p:cNvGrpSpPr/>
              <p:nvPr/>
            </p:nvGrpSpPr>
            <p:grpSpPr>
              <a:xfrm>
                <a:off x="1152720" y="2779560"/>
                <a:ext cx="295200" cy="337320"/>
                <a:chOff x="1152720" y="2779560"/>
                <a:chExt cx="295200" cy="337320"/>
              </a:xfrm>
            </p:grpSpPr>
            <p:pic>
              <p:nvPicPr>
                <p:cNvPr id="1026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160"/>
                  <a:ext cx="28404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7" name="TextBox 146"/>
                <p:cNvSpPr/>
                <p:nvPr/>
              </p:nvSpPr>
              <p:spPr>
                <a:xfrm>
                  <a:off x="115272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8" name="직사각형 32"/>
              <p:cNvSpPr/>
              <p:nvPr/>
            </p:nvSpPr>
            <p:spPr>
              <a:xfrm>
                <a:off x="1440720" y="2714760"/>
                <a:ext cx="28033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향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proactive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9" name="직선 연결선 26"/>
            <p:cNvSpPr/>
            <p:nvPr/>
          </p:nvSpPr>
          <p:spPr>
            <a:xfrm>
              <a:off x="4643640" y="300024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0" name="그룹 114"/>
            <p:cNvGrpSpPr/>
            <p:nvPr/>
          </p:nvGrpSpPr>
          <p:grpSpPr>
            <a:xfrm>
              <a:off x="1376280" y="3107160"/>
              <a:ext cx="7599600" cy="1739880"/>
              <a:chOff x="1376280" y="3107160"/>
              <a:chExt cx="7599600" cy="1739880"/>
            </a:xfrm>
          </p:grpSpPr>
          <p:sp>
            <p:nvSpPr>
              <p:cNvPr id="1031" name="직사각형 28"/>
              <p:cNvSpPr/>
              <p:nvPr/>
            </p:nvSpPr>
            <p:spPr>
              <a:xfrm>
                <a:off x="1538640" y="3107160"/>
                <a:ext cx="743724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이 후속학습에 영향을 미치는 현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향적 정적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향적 부적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2" name="타원 29"/>
              <p:cNvGrpSpPr/>
              <p:nvPr/>
            </p:nvGrpSpPr>
            <p:grpSpPr>
              <a:xfrm>
                <a:off x="1376280" y="3279600"/>
                <a:ext cx="223560" cy="231480"/>
                <a:chOff x="1376280" y="3279600"/>
                <a:chExt cx="223560" cy="231480"/>
              </a:xfrm>
            </p:grpSpPr>
            <p:pic>
              <p:nvPicPr>
                <p:cNvPr id="1033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6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4" name=""/>
                <p:cNvSpPr/>
                <p:nvPr/>
              </p:nvSpPr>
              <p:spPr>
                <a:xfrm rot="10800000">
                  <a:off x="1455480" y="33357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1035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3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03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38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4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43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4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4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6" name="그룹 90"/>
          <p:cNvGrpSpPr/>
          <p:nvPr/>
        </p:nvGrpSpPr>
        <p:grpSpPr>
          <a:xfrm>
            <a:off x="1155600" y="4640400"/>
            <a:ext cx="7820280" cy="1309320"/>
            <a:chOff x="1155600" y="4640400"/>
            <a:chExt cx="7820280" cy="1309320"/>
          </a:xfrm>
        </p:grpSpPr>
        <p:grpSp>
          <p:nvGrpSpPr>
            <p:cNvPr id="1047" name="그룹 142"/>
            <p:cNvGrpSpPr/>
            <p:nvPr/>
          </p:nvGrpSpPr>
          <p:grpSpPr>
            <a:xfrm>
              <a:off x="1155600" y="4640400"/>
              <a:ext cx="3226320" cy="505440"/>
              <a:chOff x="1155600" y="4640400"/>
              <a:chExt cx="3226320" cy="505440"/>
            </a:xfrm>
          </p:grpSpPr>
          <p:grpSp>
            <p:nvGrpSpPr>
              <p:cNvPr id="1048" name="그룹 97"/>
              <p:cNvGrpSpPr/>
              <p:nvPr/>
            </p:nvGrpSpPr>
            <p:grpSpPr>
              <a:xfrm>
                <a:off x="1155600" y="4705200"/>
                <a:ext cx="305640" cy="337320"/>
                <a:chOff x="1155600" y="4705200"/>
                <a:chExt cx="305640" cy="337320"/>
              </a:xfrm>
            </p:grpSpPr>
            <p:pic>
              <p:nvPicPr>
                <p:cNvPr id="1049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754520"/>
                  <a:ext cx="28620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0" name="TextBox 146"/>
                <p:cNvSpPr/>
                <p:nvPr/>
              </p:nvSpPr>
              <p:spPr>
                <a:xfrm>
                  <a:off x="1155600" y="4705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1" name="직사각형 42"/>
              <p:cNvSpPr/>
              <p:nvPr/>
            </p:nvSpPr>
            <p:spPr>
              <a:xfrm>
                <a:off x="1432440" y="4640400"/>
                <a:ext cx="29494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역행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troactive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2" name="직선 연결선 37"/>
            <p:cNvSpPr/>
            <p:nvPr/>
          </p:nvSpPr>
          <p:spPr>
            <a:xfrm>
              <a:off x="4643640" y="49258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3" name="그룹 114"/>
            <p:cNvGrpSpPr/>
            <p:nvPr/>
          </p:nvGrpSpPr>
          <p:grpSpPr>
            <a:xfrm>
              <a:off x="1376280" y="5032800"/>
              <a:ext cx="7599600" cy="916920"/>
              <a:chOff x="1376280" y="5032800"/>
              <a:chExt cx="7599600" cy="916920"/>
            </a:xfrm>
          </p:grpSpPr>
          <p:sp>
            <p:nvSpPr>
              <p:cNvPr id="1054" name="직사각형 39"/>
              <p:cNvSpPr/>
              <p:nvPr/>
            </p:nvSpPr>
            <p:spPr>
              <a:xfrm>
                <a:off x="1538640" y="5032800"/>
                <a:ext cx="74372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재의 학습활동이 과거에 학습한 활동을 이해하는 데 영향을 주는 현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오늘 신문에서 읽은 내용으로 어제 수업 내용을 더 정확하게 이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5" name="타원 40"/>
              <p:cNvGrpSpPr/>
              <p:nvPr/>
            </p:nvGrpSpPr>
            <p:grpSpPr>
              <a:xfrm>
                <a:off x="1376280" y="5205960"/>
                <a:ext cx="223560" cy="231480"/>
                <a:chOff x="1376280" y="5205960"/>
                <a:chExt cx="223560" cy="231480"/>
              </a:xfrm>
            </p:grpSpPr>
            <p:pic>
              <p:nvPicPr>
                <p:cNvPr id="1056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520596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7" name=""/>
                <p:cNvSpPr/>
                <p:nvPr/>
              </p:nvSpPr>
              <p:spPr>
                <a:xfrm rot="10800000">
                  <a:off x="1455480" y="52614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8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59" name="그룹 35"/>
          <p:cNvGrpSpPr/>
          <p:nvPr/>
        </p:nvGrpSpPr>
        <p:grpSpPr>
          <a:xfrm>
            <a:off x="642960" y="1314360"/>
            <a:ext cx="8429760" cy="473040"/>
            <a:chOff x="642960" y="1314360"/>
            <a:chExt cx="8429760" cy="473040"/>
          </a:xfrm>
        </p:grpSpPr>
        <p:grpSp>
          <p:nvGrpSpPr>
            <p:cNvPr id="106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61" name="직사각형 13"/>
              <p:cNvSpPr/>
              <p:nvPr/>
            </p:nvSpPr>
            <p:spPr>
              <a:xfrm>
                <a:off x="143676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해결의 의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6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6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6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6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68" name="TextBox 88"/>
            <p:cNvSpPr/>
            <p:nvPr/>
          </p:nvSpPr>
          <p:spPr>
            <a:xfrm>
              <a:off x="678600" y="1314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69" name="Picture 5" descr="233"/>
          <p:cNvPicPr/>
          <p:nvPr/>
        </p:nvPicPr>
        <p:blipFill>
          <a:blip r:embed="rId3"/>
          <a:srcRect l="2544" t="0" r="24313" b="0"/>
          <a:stretch/>
        </p:blipFill>
        <p:spPr>
          <a:xfrm>
            <a:off x="714240" y="2286000"/>
            <a:ext cx="8072640" cy="350028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</p:pic>
      <p:grpSp>
        <p:nvGrpSpPr>
          <p:cNvPr id="1070" name="그룹 13"/>
          <p:cNvGrpSpPr/>
          <p:nvPr/>
        </p:nvGrpSpPr>
        <p:grpSpPr>
          <a:xfrm>
            <a:off x="1071720" y="2308320"/>
            <a:ext cx="8072280" cy="2151360"/>
            <a:chOff x="1071720" y="2308320"/>
            <a:chExt cx="8072280" cy="2151360"/>
          </a:xfrm>
        </p:grpSpPr>
        <p:sp>
          <p:nvSpPr>
            <p:cNvPr id="1071" name="직사각형 51"/>
            <p:cNvSpPr/>
            <p:nvPr/>
          </p:nvSpPr>
          <p:spPr>
            <a:xfrm>
              <a:off x="1285920" y="2477880"/>
              <a:ext cx="7500960" cy="4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직사각형 40"/>
            <p:cNvSpPr/>
            <p:nvPr/>
          </p:nvSpPr>
          <p:spPr>
            <a:xfrm>
              <a:off x="1071720" y="2308320"/>
              <a:ext cx="8072280" cy="21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problem)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상태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바람직한 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간의 격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는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1)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에 제시된 조건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2)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을 통해 달성하려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바람직한 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 (3)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작 혹은 경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에 도달하려는 인지적 조작 혹은 활동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problem-solving)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 상태를 바람직한 상태로 바꾸는 과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3" name="타원 41"/>
            <p:cNvGrpSpPr/>
            <p:nvPr/>
          </p:nvGrpSpPr>
          <p:grpSpPr>
            <a:xfrm>
              <a:off x="1072800" y="2383560"/>
              <a:ext cx="231480" cy="237600"/>
              <a:chOff x="1072800" y="2383560"/>
              <a:chExt cx="231480" cy="237600"/>
            </a:xfrm>
          </p:grpSpPr>
          <p:pic>
            <p:nvPicPr>
              <p:cNvPr id="1074" name="타원 41" descr=""/>
              <p:cNvPicPr/>
              <p:nvPr/>
            </p:nvPicPr>
            <p:blipFill>
              <a:blip r:embed="rId4"/>
              <a:stretch/>
            </p:blipFill>
            <p:spPr>
              <a:xfrm>
                <a:off x="1072800" y="238356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5" name=""/>
              <p:cNvSpPr/>
              <p:nvPr/>
            </p:nvSpPr>
            <p:spPr>
              <a:xfrm rot="10800000">
                <a:off x="1157040" y="244296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6" name="타원 52"/>
            <p:cNvGrpSpPr/>
            <p:nvPr/>
          </p:nvGrpSpPr>
          <p:grpSpPr>
            <a:xfrm>
              <a:off x="1072800" y="4072680"/>
              <a:ext cx="231480" cy="231480"/>
              <a:chOff x="1072800" y="4072680"/>
              <a:chExt cx="231480" cy="231480"/>
            </a:xfrm>
          </p:grpSpPr>
          <p:pic>
            <p:nvPicPr>
              <p:cNvPr id="1077" name="타원 52" descr=""/>
              <p:cNvPicPr/>
              <p:nvPr/>
            </p:nvPicPr>
            <p:blipFill>
              <a:blip r:embed="rId5"/>
              <a:stretch/>
            </p:blipFill>
            <p:spPr>
              <a:xfrm>
                <a:off x="1072800" y="407268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8" name=""/>
              <p:cNvSpPr/>
              <p:nvPr/>
            </p:nvSpPr>
            <p:spPr>
              <a:xfrm rot="10800000">
                <a:off x="1157040" y="413100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79" name="그룹 56"/>
          <p:cNvGrpSpPr/>
          <p:nvPr/>
        </p:nvGrpSpPr>
        <p:grpSpPr>
          <a:xfrm>
            <a:off x="2286000" y="4786200"/>
            <a:ext cx="4572000" cy="571680"/>
            <a:chOff x="2286000" y="4786200"/>
            <a:chExt cx="4572000" cy="571680"/>
          </a:xfrm>
        </p:grpSpPr>
        <p:grpSp>
          <p:nvGrpSpPr>
            <p:cNvPr id="1080" name="모서리가 둥근 직사각형 53"/>
            <p:cNvGrpSpPr/>
            <p:nvPr/>
          </p:nvGrpSpPr>
          <p:grpSpPr>
            <a:xfrm>
              <a:off x="2286000" y="4786200"/>
              <a:ext cx="1728360" cy="571680"/>
              <a:chOff x="2286000" y="4786200"/>
              <a:chExt cx="1728360" cy="571680"/>
            </a:xfrm>
          </p:grpSpPr>
          <p:pic>
            <p:nvPicPr>
              <p:cNvPr id="1081" name="모서리가 둥근 직사각형 53" descr=""/>
              <p:cNvPicPr/>
              <p:nvPr/>
            </p:nvPicPr>
            <p:blipFill>
              <a:blip r:embed="rId6"/>
              <a:stretch/>
            </p:blipFill>
            <p:spPr>
              <a:xfrm>
                <a:off x="2286000" y="4786200"/>
                <a:ext cx="1728360" cy="57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2" name=""/>
              <p:cNvSpPr/>
              <p:nvPr/>
            </p:nvSpPr>
            <p:spPr>
              <a:xfrm>
                <a:off x="2433600" y="4886640"/>
                <a:ext cx="1437480" cy="35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재 상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3" name="모서리가 둥근 직사각형 54"/>
            <p:cNvGrpSpPr/>
            <p:nvPr/>
          </p:nvGrpSpPr>
          <p:grpSpPr>
            <a:xfrm>
              <a:off x="5129640" y="4786200"/>
              <a:ext cx="1728360" cy="571680"/>
              <a:chOff x="5129640" y="4786200"/>
              <a:chExt cx="1728360" cy="571680"/>
            </a:xfrm>
          </p:grpSpPr>
          <p:pic>
            <p:nvPicPr>
              <p:cNvPr id="1084" name="모서리가 둥근 직사각형 54" descr=""/>
              <p:cNvPicPr/>
              <p:nvPr/>
            </p:nvPicPr>
            <p:blipFill>
              <a:blip r:embed="rId7"/>
              <a:stretch/>
            </p:blipFill>
            <p:spPr>
              <a:xfrm>
                <a:off x="5129640" y="4786200"/>
                <a:ext cx="1728360" cy="57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5" name=""/>
              <p:cNvSpPr/>
              <p:nvPr/>
            </p:nvSpPr>
            <p:spPr>
              <a:xfrm>
                <a:off x="5278320" y="4886640"/>
                <a:ext cx="1437480" cy="35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목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6" name="오른쪽 화살표 55"/>
            <p:cNvGrpSpPr/>
            <p:nvPr/>
          </p:nvGrpSpPr>
          <p:grpSpPr>
            <a:xfrm>
              <a:off x="4239720" y="4947120"/>
              <a:ext cx="739800" cy="254160"/>
              <a:chOff x="4239720" y="4947120"/>
              <a:chExt cx="739800" cy="254160"/>
            </a:xfrm>
          </p:grpSpPr>
          <p:pic>
            <p:nvPicPr>
              <p:cNvPr id="1087" name="오른쪽 화살표 55" descr=""/>
              <p:cNvPicPr/>
              <p:nvPr/>
            </p:nvPicPr>
            <p:blipFill>
              <a:blip r:embed="rId8"/>
              <a:stretch/>
            </p:blipFill>
            <p:spPr>
              <a:xfrm>
                <a:off x="4239720" y="4947120"/>
                <a:ext cx="739800" cy="25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8" name=""/>
              <p:cNvSpPr/>
              <p:nvPr/>
            </p:nvSpPr>
            <p:spPr>
              <a:xfrm>
                <a:off x="4303800" y="5016960"/>
                <a:ext cx="558720" cy="7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9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90" name="그룹 26"/>
          <p:cNvGrpSpPr/>
          <p:nvPr/>
        </p:nvGrpSpPr>
        <p:grpSpPr>
          <a:xfrm>
            <a:off x="928800" y="1895400"/>
            <a:ext cx="7505640" cy="4415040"/>
            <a:chOff x="928800" y="1895400"/>
            <a:chExt cx="7505640" cy="4415040"/>
          </a:xfrm>
        </p:grpSpPr>
        <p:sp>
          <p:nvSpPr>
            <p:cNvPr id="1091" name="AutoShape 4"/>
            <p:cNvSpPr/>
            <p:nvPr/>
          </p:nvSpPr>
          <p:spPr>
            <a:xfrm>
              <a:off x="5639040" y="3643200"/>
              <a:ext cx="2728800" cy="2667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ef2cc"/>
                </a:gs>
              </a:gsLst>
              <a:lin ang="2700000"/>
            </a:gradFill>
            <a:ln w="38160">
              <a:solidFill>
                <a:srgbClr val="969696"/>
              </a:solidFill>
              <a:miter/>
            </a:ln>
            <a:effectLst>
              <a:outerShdw dist="91658" dir="338234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Text Box 5"/>
            <p:cNvSpPr/>
            <p:nvPr/>
          </p:nvSpPr>
          <p:spPr>
            <a:xfrm>
              <a:off x="5943600" y="3680640"/>
              <a:ext cx="205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구조화 문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AutoShape 6"/>
            <p:cNvSpPr/>
            <p:nvPr/>
          </p:nvSpPr>
          <p:spPr>
            <a:xfrm>
              <a:off x="928800" y="3619440"/>
              <a:ext cx="2728800" cy="2667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9e4ff"/>
                </a:gs>
              </a:gsLst>
              <a:lin ang="2700000"/>
            </a:gradFill>
            <a:ln w="38160">
              <a:solidFill>
                <a:srgbClr val="969696"/>
              </a:solidFill>
              <a:miter/>
            </a:ln>
            <a:effectLst>
              <a:outerShdw dist="91658" dir="338234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Text Box 7"/>
            <p:cNvSpPr/>
            <p:nvPr/>
          </p:nvSpPr>
          <p:spPr>
            <a:xfrm>
              <a:off x="1214280" y="3702600"/>
              <a:ext cx="203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조화 문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AutoShape 8"/>
            <p:cNvSpPr/>
            <p:nvPr/>
          </p:nvSpPr>
          <p:spPr>
            <a:xfrm>
              <a:off x="3451320" y="3519360"/>
              <a:ext cx="909360" cy="12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Freeform 9"/>
            <p:cNvSpPr/>
            <p:nvPr/>
          </p:nvSpPr>
          <p:spPr>
            <a:xfrm>
              <a:off x="3451320" y="3522600"/>
              <a:ext cx="903240" cy="1241280"/>
            </a:xfrm>
            <a:prstGeom prst="pi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aedfe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AutoShape 10"/>
            <p:cNvSpPr/>
            <p:nvPr/>
          </p:nvSpPr>
          <p:spPr>
            <a:xfrm flipH="1">
              <a:off x="4945320" y="3519360"/>
              <a:ext cx="909360" cy="12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Freeform 11"/>
            <p:cNvSpPr/>
            <p:nvPr/>
          </p:nvSpPr>
          <p:spPr>
            <a:xfrm flipH="1">
              <a:off x="4928400" y="3522600"/>
              <a:ext cx="903240" cy="1241280"/>
            </a:xfrm>
            <a:prstGeom prst="pie">
              <a:avLst/>
            </a:prstGeom>
            <a:gradFill rotWithShape="0">
              <a:gsLst>
                <a:gs pos="0">
                  <a:srgbClr val="ff9966"/>
                </a:gs>
                <a:gs pos="100000">
                  <a:srgbClr val="ffdfc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9" name="Group 12"/>
            <p:cNvGrpSpPr/>
            <p:nvPr/>
          </p:nvGrpSpPr>
          <p:grpSpPr>
            <a:xfrm>
              <a:off x="3170160" y="1895400"/>
              <a:ext cx="2998440" cy="1600920"/>
              <a:chOff x="3170160" y="1895400"/>
              <a:chExt cx="2998440" cy="1600920"/>
            </a:xfrm>
          </p:grpSpPr>
          <p:grpSp>
            <p:nvGrpSpPr>
              <p:cNvPr id="1100" name="Group 13"/>
              <p:cNvGrpSpPr/>
              <p:nvPr/>
            </p:nvGrpSpPr>
            <p:grpSpPr>
              <a:xfrm>
                <a:off x="3170160" y="2037960"/>
                <a:ext cx="2998440" cy="1458360"/>
                <a:chOff x="3170160" y="2037960"/>
                <a:chExt cx="2998440" cy="1458360"/>
              </a:xfrm>
            </p:grpSpPr>
            <p:sp>
              <p:nvSpPr>
                <p:cNvPr id="1101" name="Oval 14"/>
                <p:cNvSpPr/>
                <p:nvPr/>
              </p:nvSpPr>
              <p:spPr>
                <a:xfrm>
                  <a:off x="3202920" y="208440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04882"/>
                    </a:gs>
                    <a:gs pos="100000">
                      <a:srgbClr val="3371cd"/>
                    </a:gs>
                  </a:gsLst>
                  <a:lin ang="2700000"/>
                </a:gradFill>
                <a:ln w="0">
                  <a:noFill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2" name="Oval 15"/>
                <p:cNvSpPr/>
                <p:nvPr/>
              </p:nvSpPr>
              <p:spPr>
                <a:xfrm>
                  <a:off x="3170160" y="2037960"/>
                  <a:ext cx="2965680" cy="141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5c0e9"/>
                    </a:gs>
                    <a:gs pos="100000">
                      <a:srgbClr val="3371cd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3" name="Oval 16"/>
              <p:cNvSpPr/>
              <p:nvPr/>
            </p:nvSpPr>
            <p:spPr>
              <a:xfrm>
                <a:off x="3311640" y="1895400"/>
                <a:ext cx="2684520" cy="1341360"/>
              </a:xfrm>
              <a:prstGeom prst="ellipse">
                <a:avLst/>
              </a:prstGeom>
              <a:gradFill rotWithShape="0">
                <a:gsLst>
                  <a:gs pos="0">
                    <a:srgbClr val="6a583b"/>
                  </a:gs>
                  <a:gs pos="100000">
                    <a:srgbClr val="e6bf8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Oval 17"/>
              <p:cNvSpPr/>
              <p:nvPr/>
            </p:nvSpPr>
            <p:spPr>
              <a:xfrm>
                <a:off x="3346560" y="1902960"/>
                <a:ext cx="2619360" cy="1307880"/>
              </a:xfrm>
              <a:prstGeom prst="ellipse">
                <a:avLst/>
              </a:prstGeom>
              <a:gradFill rotWithShape="0">
                <a:gsLst>
                  <a:gs pos="0">
                    <a:srgbClr val="e6bf80">
                      <a:alpha val="0"/>
                    </a:srgbClr>
                  </a:gs>
                  <a:gs pos="100000">
                    <a:srgbClr val="f6e9d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Oval 18"/>
              <p:cNvSpPr/>
              <p:nvPr/>
            </p:nvSpPr>
            <p:spPr>
              <a:xfrm>
                <a:off x="3373560" y="1915920"/>
                <a:ext cx="2492280" cy="1221840"/>
              </a:xfrm>
              <a:prstGeom prst="ellipse">
                <a:avLst/>
              </a:prstGeom>
              <a:gradFill rotWithShape="0">
                <a:gsLst>
                  <a:gs pos="0">
                    <a:srgbClr val="b69765"/>
                  </a:gs>
                  <a:gs pos="100000">
                    <a:srgbClr val="e6bf80">
                      <a:alpha val="48235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Oval 19"/>
              <p:cNvSpPr/>
              <p:nvPr/>
            </p:nvSpPr>
            <p:spPr>
              <a:xfrm>
                <a:off x="3505320" y="1942920"/>
                <a:ext cx="2193840" cy="990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6bf80">
                      <a:alpha val="38039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7" name="Text Box 20"/>
            <p:cNvSpPr/>
            <p:nvPr/>
          </p:nvSpPr>
          <p:spPr>
            <a:xfrm>
              <a:off x="4082400" y="2262240"/>
              <a:ext cx="1174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의 종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Text Box 7"/>
            <p:cNvSpPr/>
            <p:nvPr/>
          </p:nvSpPr>
          <p:spPr>
            <a:xfrm>
              <a:off x="1137960" y="4401360"/>
              <a:ext cx="2576520" cy="11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답이 분명히 존재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에 필요한 정보가 모두 존재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책이 분명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Text Box 7"/>
            <p:cNvSpPr/>
            <p:nvPr/>
          </p:nvSpPr>
          <p:spPr>
            <a:xfrm>
              <a:off x="5857920" y="4401360"/>
              <a:ext cx="2576520" cy="11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답이 모호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에 필요한 정보가 부족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책이 분명하지 않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0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11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12" name="직사각형 13"/>
              <p:cNvSpPr/>
              <p:nvPr/>
            </p:nvSpPr>
            <p:spPr>
              <a:xfrm>
                <a:off x="13323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1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1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19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0" name="타원 40"/>
          <p:cNvGrpSpPr/>
          <p:nvPr/>
        </p:nvGrpSpPr>
        <p:grpSpPr>
          <a:xfrm>
            <a:off x="987480" y="4486320"/>
            <a:ext cx="201600" cy="208080"/>
            <a:chOff x="987480" y="4486320"/>
            <a:chExt cx="201600" cy="208080"/>
          </a:xfrm>
        </p:grpSpPr>
        <p:pic>
          <p:nvPicPr>
            <p:cNvPr id="1121" name="타원 40" descr=""/>
            <p:cNvPicPr/>
            <p:nvPr/>
          </p:nvPicPr>
          <p:blipFill>
            <a:blip r:embed="rId3"/>
            <a:stretch/>
          </p:blipFill>
          <p:spPr>
            <a:xfrm>
              <a:off x="987480" y="4486320"/>
              <a:ext cx="20160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2" name=""/>
            <p:cNvSpPr/>
            <p:nvPr/>
          </p:nvSpPr>
          <p:spPr>
            <a:xfrm rot="10800000">
              <a:off x="1068120" y="454140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3" name="타원 41"/>
          <p:cNvGrpSpPr/>
          <p:nvPr/>
        </p:nvGrpSpPr>
        <p:grpSpPr>
          <a:xfrm>
            <a:off x="987480" y="4883040"/>
            <a:ext cx="201600" cy="206640"/>
            <a:chOff x="987480" y="4883040"/>
            <a:chExt cx="201600" cy="206640"/>
          </a:xfrm>
        </p:grpSpPr>
        <p:pic>
          <p:nvPicPr>
            <p:cNvPr id="1124" name="타원 41" descr=""/>
            <p:cNvPicPr/>
            <p:nvPr/>
          </p:nvPicPr>
          <p:blipFill>
            <a:blip r:embed="rId4"/>
            <a:stretch/>
          </p:blipFill>
          <p:spPr>
            <a:xfrm>
              <a:off x="987480" y="4883040"/>
              <a:ext cx="20160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5" name=""/>
            <p:cNvSpPr/>
            <p:nvPr/>
          </p:nvSpPr>
          <p:spPr>
            <a:xfrm rot="10800000">
              <a:off x="1068120" y="493848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6" name="타원 42"/>
          <p:cNvGrpSpPr/>
          <p:nvPr/>
        </p:nvGrpSpPr>
        <p:grpSpPr>
          <a:xfrm>
            <a:off x="987480" y="5529240"/>
            <a:ext cx="201600" cy="206280"/>
            <a:chOff x="987480" y="5529240"/>
            <a:chExt cx="201600" cy="206280"/>
          </a:xfrm>
        </p:grpSpPr>
        <p:pic>
          <p:nvPicPr>
            <p:cNvPr id="1127" name="타원 42" descr=""/>
            <p:cNvPicPr/>
            <p:nvPr/>
          </p:nvPicPr>
          <p:blipFill>
            <a:blip r:embed="rId5"/>
            <a:stretch/>
          </p:blipFill>
          <p:spPr>
            <a:xfrm>
              <a:off x="987480" y="5529240"/>
              <a:ext cx="20160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8" name=""/>
            <p:cNvSpPr/>
            <p:nvPr/>
          </p:nvSpPr>
          <p:spPr>
            <a:xfrm rot="10800000">
              <a:off x="1068120" y="558144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9" name="타원 43"/>
          <p:cNvGrpSpPr/>
          <p:nvPr/>
        </p:nvGrpSpPr>
        <p:grpSpPr>
          <a:xfrm>
            <a:off x="5718240" y="5522760"/>
            <a:ext cx="201600" cy="208080"/>
            <a:chOff x="5718240" y="5522760"/>
            <a:chExt cx="201600" cy="208080"/>
          </a:xfrm>
        </p:grpSpPr>
        <p:pic>
          <p:nvPicPr>
            <p:cNvPr id="1130" name="타원 43" descr=""/>
            <p:cNvPicPr/>
            <p:nvPr/>
          </p:nvPicPr>
          <p:blipFill>
            <a:blip r:embed="rId6"/>
            <a:stretch/>
          </p:blipFill>
          <p:spPr>
            <a:xfrm>
              <a:off x="5718240" y="5522760"/>
              <a:ext cx="20160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1" name=""/>
            <p:cNvSpPr/>
            <p:nvPr/>
          </p:nvSpPr>
          <p:spPr>
            <a:xfrm rot="10800000">
              <a:off x="5795640" y="5576760"/>
              <a:ext cx="50760" cy="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2" name="타원 44"/>
          <p:cNvGrpSpPr/>
          <p:nvPr/>
        </p:nvGrpSpPr>
        <p:grpSpPr>
          <a:xfrm>
            <a:off x="5718240" y="4883040"/>
            <a:ext cx="201600" cy="206640"/>
            <a:chOff x="5718240" y="4883040"/>
            <a:chExt cx="201600" cy="206640"/>
          </a:xfrm>
        </p:grpSpPr>
        <p:pic>
          <p:nvPicPr>
            <p:cNvPr id="1133" name="타원 44" descr=""/>
            <p:cNvPicPr/>
            <p:nvPr/>
          </p:nvPicPr>
          <p:blipFill>
            <a:blip r:embed="rId7"/>
            <a:stretch/>
          </p:blipFill>
          <p:spPr>
            <a:xfrm>
              <a:off x="5718240" y="4883040"/>
              <a:ext cx="20160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4" name=""/>
            <p:cNvSpPr/>
            <p:nvPr/>
          </p:nvSpPr>
          <p:spPr>
            <a:xfrm rot="10800000">
              <a:off x="5795640" y="4933800"/>
              <a:ext cx="50760" cy="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5" name="타원 45"/>
          <p:cNvGrpSpPr/>
          <p:nvPr/>
        </p:nvGrpSpPr>
        <p:grpSpPr>
          <a:xfrm>
            <a:off x="5718240" y="4492800"/>
            <a:ext cx="201600" cy="207720"/>
            <a:chOff x="5718240" y="4492800"/>
            <a:chExt cx="201600" cy="207720"/>
          </a:xfrm>
        </p:grpSpPr>
        <p:pic>
          <p:nvPicPr>
            <p:cNvPr id="1136" name="타원 45" descr=""/>
            <p:cNvPicPr/>
            <p:nvPr/>
          </p:nvPicPr>
          <p:blipFill>
            <a:blip r:embed="rId8"/>
            <a:stretch/>
          </p:blipFill>
          <p:spPr>
            <a:xfrm>
              <a:off x="5718240" y="4492800"/>
              <a:ext cx="201600" cy="20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7" name=""/>
            <p:cNvSpPr/>
            <p:nvPr/>
          </p:nvSpPr>
          <p:spPr>
            <a:xfrm rot="10800000">
              <a:off x="5795640" y="454464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8" name="직선 연결선 47"/>
          <p:cNvSpPr/>
          <p:nvPr/>
        </p:nvSpPr>
        <p:spPr>
          <a:xfrm>
            <a:off x="1143000" y="4116240"/>
            <a:ext cx="228600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직선 연결선 50"/>
          <p:cNvSpPr/>
          <p:nvPr/>
        </p:nvSpPr>
        <p:spPr>
          <a:xfrm>
            <a:off x="5857920" y="4116240"/>
            <a:ext cx="228600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25T01:00:20Z</dcterms:modified>
  <cp:revision>403</cp:revision>
  <dc:subject/>
  <dc:title>PowerPoint Template</dc:title>
</cp:coreProperties>
</file>